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c0c0c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547C-4317-4E01-800F-33207B0BBB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B16-FD7D-4983-AC91-674163452C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34C5-2E03-4056-83DB-DBFC959D1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8F07-D7C0-4F9C-9FBB-9CDF7DE7E6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7615-20D3-48D4-B372-43E3040978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1940-06A0-4978-99B5-440E134DDE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C609-7CA6-4C44-868C-99A29C9C18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F2D9-401E-4B66-BF25-3E9E3E60DA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B41-9718-499F-956A-05800DF51E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E1D-CF1C-43D7-844D-196473B1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581-0799-400C-8596-738008E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97B-EE97-4B52-83BD-76B6F8CE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992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318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6572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7992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4CC-67BD-4CA1-B645-E1ED9F43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80344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5F8-32F7-4E61-BFCB-2837B4EE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992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318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6572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992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A97-8A2E-4090-AE43-1E675BCC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80344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799240" y="162864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1318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6572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799240" y="3659400"/>
            <a:ext cx="22222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B55-45FA-4C6A-AECF-5086CD91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C8F-04F9-4175-97A6-EA63BF3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80344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0DE-BC76-4795-A64C-7B2961A5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F7C-6FEB-4E56-BC93-24149FF8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840" y="365940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C6D-C548-4F95-B96F-F5645F81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31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840" y="1628640"/>
            <a:ext cx="336816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31840" y="3659400"/>
            <a:ext cx="690264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AF5-0D99-4FD7-9615-F336306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1840" y="1628640"/>
            <a:ext cx="690264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F56-AA86-47F8-9EAD-2754CA38F1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3"/>
          <p:cNvGrpSpPr/>
          <p:nvPr/>
        </p:nvGrpSpPr>
        <p:grpSpPr>
          <a:xfrm>
            <a:off x="6222960" y="3916440"/>
            <a:ext cx="5841720" cy="5882400"/>
            <a:chOff x="6222960" y="3916440"/>
            <a:chExt cx="5841720" cy="5882400"/>
          </a:xfrm>
        </p:grpSpPr>
        <p:sp>
          <p:nvSpPr>
            <p:cNvPr id="6" name="Freeform 74"/>
            <p:cNvSpPr/>
            <p:nvPr/>
          </p:nvSpPr>
          <p:spPr>
            <a:xfrm>
              <a:off x="8326440" y="5476680"/>
              <a:ext cx="1608120" cy="8006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5"/>
            <p:cNvSpPr/>
            <p:nvPr/>
          </p:nvSpPr>
          <p:spPr>
            <a:xfrm>
              <a:off x="9217800" y="6963120"/>
              <a:ext cx="1285560" cy="12650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6"/>
            <p:cNvSpPr/>
            <p:nvPr/>
          </p:nvSpPr>
          <p:spPr>
            <a:xfrm>
              <a:off x="9217800" y="5877360"/>
              <a:ext cx="1285560" cy="14598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7"/>
            <p:cNvSpPr/>
            <p:nvPr/>
          </p:nvSpPr>
          <p:spPr>
            <a:xfrm>
              <a:off x="7757280" y="5882760"/>
              <a:ext cx="1285560" cy="14544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8"/>
            <p:cNvSpPr/>
            <p:nvPr/>
          </p:nvSpPr>
          <p:spPr>
            <a:xfrm>
              <a:off x="7757280" y="6968520"/>
              <a:ext cx="1290960" cy="12596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9"/>
            <p:cNvSpPr/>
            <p:nvPr/>
          </p:nvSpPr>
          <p:spPr>
            <a:xfrm>
              <a:off x="6903000" y="6130080"/>
              <a:ext cx="194760" cy="3214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80"/>
            <p:cNvSpPr/>
            <p:nvPr/>
          </p:nvSpPr>
          <p:spPr>
            <a:xfrm>
              <a:off x="11316240" y="6446880"/>
              <a:ext cx="10080" cy="46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81"/>
            <p:cNvSpPr/>
            <p:nvPr/>
          </p:nvSpPr>
          <p:spPr>
            <a:xfrm>
              <a:off x="11242080" y="6140880"/>
              <a:ext cx="5040" cy="50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82"/>
            <p:cNvSpPr/>
            <p:nvPr/>
          </p:nvSpPr>
          <p:spPr>
            <a:xfrm>
              <a:off x="11168640" y="6125400"/>
              <a:ext cx="189360" cy="3261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83"/>
            <p:cNvSpPr/>
            <p:nvPr/>
          </p:nvSpPr>
          <p:spPr>
            <a:xfrm>
              <a:off x="7393320" y="5155200"/>
              <a:ext cx="321480" cy="3214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84"/>
            <p:cNvSpPr/>
            <p:nvPr/>
          </p:nvSpPr>
          <p:spPr>
            <a:xfrm>
              <a:off x="8358120" y="4633560"/>
              <a:ext cx="379440" cy="20772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85"/>
            <p:cNvSpPr/>
            <p:nvPr/>
          </p:nvSpPr>
          <p:spPr>
            <a:xfrm>
              <a:off x="9544320" y="4638960"/>
              <a:ext cx="374760" cy="205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86"/>
            <p:cNvSpPr/>
            <p:nvPr/>
          </p:nvSpPr>
          <p:spPr>
            <a:xfrm>
              <a:off x="10557000" y="5149800"/>
              <a:ext cx="326160" cy="3268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87"/>
            <p:cNvSpPr/>
            <p:nvPr/>
          </p:nvSpPr>
          <p:spPr>
            <a:xfrm>
              <a:off x="8769600" y="3916440"/>
              <a:ext cx="743040" cy="113292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88"/>
            <p:cNvSpPr/>
            <p:nvPr/>
          </p:nvSpPr>
          <p:spPr>
            <a:xfrm>
              <a:off x="6222960" y="6483240"/>
              <a:ext cx="5841720" cy="33156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89"/>
            <p:cNvSpPr/>
            <p:nvPr/>
          </p:nvSpPr>
          <p:spPr>
            <a:xfrm>
              <a:off x="10651320" y="5392440"/>
              <a:ext cx="1049040" cy="790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90"/>
            <p:cNvSpPr/>
            <p:nvPr/>
          </p:nvSpPr>
          <p:spPr>
            <a:xfrm>
              <a:off x="9860400" y="4327560"/>
              <a:ext cx="790560" cy="10432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1"/>
            <p:cNvSpPr/>
            <p:nvPr/>
          </p:nvSpPr>
          <p:spPr>
            <a:xfrm>
              <a:off x="7619760" y="4327560"/>
              <a:ext cx="795960" cy="10432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92"/>
            <p:cNvSpPr/>
            <p:nvPr/>
          </p:nvSpPr>
          <p:spPr>
            <a:xfrm>
              <a:off x="6591600" y="5413320"/>
              <a:ext cx="1049760" cy="790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7"/>
          <p:cNvGrpSpPr/>
          <p:nvPr/>
        </p:nvGrpSpPr>
        <p:grpSpPr>
          <a:xfrm>
            <a:off x="0" y="5749920"/>
            <a:ext cx="2843280" cy="934920"/>
            <a:chOff x="0" y="5749920"/>
            <a:chExt cx="2843280" cy="934920"/>
          </a:xfrm>
        </p:grpSpPr>
        <p:sp>
          <p:nvSpPr>
            <p:cNvPr id="26" name="Rectangle 7"/>
            <p:cNvSpPr/>
            <p:nvPr/>
          </p:nvSpPr>
          <p:spPr>
            <a:xfrm>
              <a:off x="0" y="5749920"/>
              <a:ext cx="2843280" cy="934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" name="Picture 99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01680" y="5859360"/>
              <a:ext cx="229212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c0c0c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31840" y="1412640"/>
            <a:ext cx="6902640" cy="41036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126000" rIns="126000" tIns="126000" bIns="12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66" name="Group 7"/>
          <p:cNvGrpSpPr/>
          <p:nvPr/>
        </p:nvGrpSpPr>
        <p:grpSpPr>
          <a:xfrm>
            <a:off x="6222960" y="3916440"/>
            <a:ext cx="5841720" cy="5882400"/>
            <a:chOff x="6222960" y="3916440"/>
            <a:chExt cx="5841720" cy="5882400"/>
          </a:xfrm>
        </p:grpSpPr>
        <p:sp>
          <p:nvSpPr>
            <p:cNvPr id="67" name="Freeform 8"/>
            <p:cNvSpPr/>
            <p:nvPr/>
          </p:nvSpPr>
          <p:spPr>
            <a:xfrm>
              <a:off x="8326440" y="5476680"/>
              <a:ext cx="1608120" cy="800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9217800" y="6963120"/>
              <a:ext cx="1285560" cy="126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9217800" y="5877360"/>
              <a:ext cx="1285560" cy="14598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7757280" y="5882760"/>
              <a:ext cx="1285560" cy="14544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7757280" y="6968520"/>
              <a:ext cx="1290960" cy="1259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6903000" y="6130080"/>
              <a:ext cx="19476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1316240" y="6446880"/>
              <a:ext cx="10080" cy="46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1242080" y="6140880"/>
              <a:ext cx="5040" cy="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1168640" y="6125400"/>
              <a:ext cx="189360" cy="3261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393320" y="5155200"/>
              <a:ext cx="32148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8358120" y="4633560"/>
              <a:ext cx="379440" cy="20772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9544320" y="4638960"/>
              <a:ext cx="374760" cy="205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0557000" y="5149800"/>
              <a:ext cx="326160" cy="3268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8769600" y="3916440"/>
              <a:ext cx="743040" cy="113292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6222960" y="6483240"/>
              <a:ext cx="5841720" cy="33156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10651320" y="5392440"/>
              <a:ext cx="104904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>
              <a:off x="9860400" y="4327560"/>
              <a:ext cx="7905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5"/>
            <p:cNvSpPr/>
            <p:nvPr/>
          </p:nvSpPr>
          <p:spPr>
            <a:xfrm>
              <a:off x="7619760" y="4327560"/>
              <a:ext cx="7959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6"/>
            <p:cNvSpPr/>
            <p:nvPr/>
          </p:nvSpPr>
          <p:spPr>
            <a:xfrm>
              <a:off x="6591600" y="5413320"/>
              <a:ext cx="104976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30"/>
          <p:cNvGrpSpPr/>
          <p:nvPr/>
        </p:nvGrpSpPr>
        <p:grpSpPr>
          <a:xfrm>
            <a:off x="0" y="5749920"/>
            <a:ext cx="2843280" cy="934920"/>
            <a:chOff x="0" y="5749920"/>
            <a:chExt cx="2843280" cy="934920"/>
          </a:xfrm>
        </p:grpSpPr>
        <p:sp>
          <p:nvSpPr>
            <p:cNvPr id="87" name="Rectangle 7"/>
            <p:cNvSpPr/>
            <p:nvPr/>
          </p:nvSpPr>
          <p:spPr>
            <a:xfrm>
              <a:off x="0" y="5749920"/>
              <a:ext cx="2843280" cy="934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32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01680" y="5859360"/>
              <a:ext cx="229212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5"/>
          <p:cNvGrpSpPr/>
          <p:nvPr/>
        </p:nvGrpSpPr>
        <p:grpSpPr>
          <a:xfrm>
            <a:off x="461880" y="6021360"/>
            <a:ext cx="1800000" cy="550800"/>
            <a:chOff x="461880" y="6021360"/>
            <a:chExt cx="1800000" cy="550800"/>
          </a:xfrm>
        </p:grpSpPr>
        <p:sp>
          <p:nvSpPr>
            <p:cNvPr id="126" name="Freeform 6"/>
            <p:cNvSpPr/>
            <p:nvPr/>
          </p:nvSpPr>
          <p:spPr>
            <a:xfrm>
              <a:off x="1096920" y="6213600"/>
              <a:ext cx="8712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1185840" y="6230880"/>
              <a:ext cx="460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1245960" y="6230880"/>
              <a:ext cx="270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1280880" y="6210360"/>
              <a:ext cx="972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1303200" y="6210360"/>
              <a:ext cx="4608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1396800" y="6213600"/>
              <a:ext cx="39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1450800" y="6232680"/>
              <a:ext cx="4140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1503360" y="6230880"/>
              <a:ext cx="298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1546200" y="6211800"/>
              <a:ext cx="111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1573200" y="6230880"/>
              <a:ext cx="396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1627200" y="6230880"/>
              <a:ext cx="39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1676160" y="6230880"/>
              <a:ext cx="288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1714320" y="6230880"/>
              <a:ext cx="316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785960" y="6211800"/>
              <a:ext cx="5544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850760" y="6230880"/>
              <a:ext cx="446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1909800" y="6232680"/>
              <a:ext cx="3960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1965240" y="6230880"/>
              <a:ext cx="414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2020680" y="6230880"/>
              <a:ext cx="396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2070000" y="6211800"/>
              <a:ext cx="111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5"/>
            <p:cNvSpPr/>
            <p:nvPr/>
          </p:nvSpPr>
          <p:spPr>
            <a:xfrm>
              <a:off x="2097000" y="6210360"/>
              <a:ext cx="93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2141280" y="6210360"/>
              <a:ext cx="2880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2176200" y="6230880"/>
              <a:ext cx="460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2235240" y="6230880"/>
              <a:ext cx="2664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1103040" y="6345360"/>
              <a:ext cx="367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1158840" y="6364440"/>
              <a:ext cx="381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1211040" y="6362640"/>
              <a:ext cx="31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1253880" y="6350040"/>
              <a:ext cx="288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1292040" y="6362640"/>
              <a:ext cx="381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1347480" y="6345360"/>
              <a:ext cx="972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1374480" y="6362640"/>
              <a:ext cx="414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1431720" y="6362640"/>
              <a:ext cx="3672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1487520" y="6343560"/>
              <a:ext cx="4284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8"/>
            <p:cNvSpPr/>
            <p:nvPr/>
          </p:nvSpPr>
          <p:spPr>
            <a:xfrm>
              <a:off x="1546200" y="6343560"/>
              <a:ext cx="936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"/>
            <p:cNvSpPr/>
            <p:nvPr/>
          </p:nvSpPr>
          <p:spPr>
            <a:xfrm>
              <a:off x="1571400" y="6362640"/>
              <a:ext cx="399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"/>
            <p:cNvSpPr/>
            <p:nvPr/>
          </p:nvSpPr>
          <p:spPr>
            <a:xfrm>
              <a:off x="1658880" y="6345360"/>
              <a:ext cx="572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"/>
            <p:cNvSpPr/>
            <p:nvPr/>
          </p:nvSpPr>
          <p:spPr>
            <a:xfrm>
              <a:off x="1728720" y="6362640"/>
              <a:ext cx="4104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2"/>
            <p:cNvSpPr/>
            <p:nvPr/>
          </p:nvSpPr>
          <p:spPr>
            <a:xfrm>
              <a:off x="1778040" y="6362640"/>
              <a:ext cx="457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3"/>
            <p:cNvSpPr/>
            <p:nvPr/>
          </p:nvSpPr>
          <p:spPr>
            <a:xfrm>
              <a:off x="1831680" y="6362640"/>
              <a:ext cx="399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4"/>
            <p:cNvSpPr/>
            <p:nvPr/>
          </p:nvSpPr>
          <p:spPr>
            <a:xfrm>
              <a:off x="1888920" y="6343560"/>
              <a:ext cx="6480" cy="6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5"/>
            <p:cNvSpPr/>
            <p:nvPr/>
          </p:nvSpPr>
          <p:spPr>
            <a:xfrm>
              <a:off x="1912680" y="6362640"/>
              <a:ext cx="460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6"/>
            <p:cNvSpPr/>
            <p:nvPr/>
          </p:nvSpPr>
          <p:spPr>
            <a:xfrm>
              <a:off x="1974600" y="6362640"/>
              <a:ext cx="4284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"/>
            <p:cNvSpPr/>
            <p:nvPr/>
          </p:nvSpPr>
          <p:spPr>
            <a:xfrm>
              <a:off x="2035080" y="6362640"/>
              <a:ext cx="698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8"/>
            <p:cNvSpPr/>
            <p:nvPr/>
          </p:nvSpPr>
          <p:spPr>
            <a:xfrm>
              <a:off x="2119320" y="6362640"/>
              <a:ext cx="3960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9"/>
            <p:cNvSpPr/>
            <p:nvPr/>
          </p:nvSpPr>
          <p:spPr>
            <a:xfrm>
              <a:off x="2176200" y="6362640"/>
              <a:ext cx="3996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0"/>
            <p:cNvSpPr/>
            <p:nvPr/>
          </p:nvSpPr>
          <p:spPr>
            <a:xfrm>
              <a:off x="2230200" y="6350040"/>
              <a:ext cx="3024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1"/>
            <p:cNvSpPr/>
            <p:nvPr/>
          </p:nvSpPr>
          <p:spPr>
            <a:xfrm>
              <a:off x="661680" y="6167520"/>
              <a:ext cx="14940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2"/>
            <p:cNvSpPr/>
            <p:nvPr/>
          </p:nvSpPr>
          <p:spPr>
            <a:xfrm>
              <a:off x="744480" y="6307200"/>
              <a:ext cx="120600" cy="11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3"/>
            <p:cNvSpPr/>
            <p:nvPr/>
          </p:nvSpPr>
          <p:spPr>
            <a:xfrm>
              <a:off x="744480" y="6203880"/>
              <a:ext cx="12060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4"/>
            <p:cNvSpPr/>
            <p:nvPr/>
          </p:nvSpPr>
          <p:spPr>
            <a:xfrm>
              <a:off x="608040" y="6203880"/>
              <a:ext cx="12060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5"/>
            <p:cNvSpPr/>
            <p:nvPr/>
          </p:nvSpPr>
          <p:spPr>
            <a:xfrm>
              <a:off x="608040" y="6307200"/>
              <a:ext cx="120600" cy="11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6"/>
            <p:cNvSpPr/>
            <p:nvPr/>
          </p:nvSpPr>
          <p:spPr>
            <a:xfrm>
              <a:off x="527040" y="6227640"/>
              <a:ext cx="190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7"/>
            <p:cNvSpPr/>
            <p:nvPr/>
          </p:nvSpPr>
          <p:spPr>
            <a:xfrm>
              <a:off x="941400" y="6257880"/>
              <a:ext cx="14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8"/>
            <p:cNvSpPr/>
            <p:nvPr/>
          </p:nvSpPr>
          <p:spPr>
            <a:xfrm>
              <a:off x="933480" y="6229440"/>
              <a:ext cx="144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9"/>
            <p:cNvSpPr/>
            <p:nvPr/>
          </p:nvSpPr>
          <p:spPr>
            <a:xfrm>
              <a:off x="925560" y="6227640"/>
              <a:ext cx="2052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0"/>
            <p:cNvSpPr/>
            <p:nvPr/>
          </p:nvSpPr>
          <p:spPr>
            <a:xfrm>
              <a:off x="573120" y="6137280"/>
              <a:ext cx="316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1"/>
            <p:cNvSpPr/>
            <p:nvPr/>
          </p:nvSpPr>
          <p:spPr>
            <a:xfrm>
              <a:off x="663480" y="6087960"/>
              <a:ext cx="363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2"/>
            <p:cNvSpPr/>
            <p:nvPr/>
          </p:nvSpPr>
          <p:spPr>
            <a:xfrm>
              <a:off x="776160" y="6087960"/>
              <a:ext cx="334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3"/>
            <p:cNvSpPr/>
            <p:nvPr/>
          </p:nvSpPr>
          <p:spPr>
            <a:xfrm>
              <a:off x="869760" y="6137280"/>
              <a:ext cx="3024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4"/>
            <p:cNvSpPr/>
            <p:nvPr/>
          </p:nvSpPr>
          <p:spPr>
            <a:xfrm>
              <a:off x="703080" y="6021360"/>
              <a:ext cx="69840" cy="10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5"/>
            <p:cNvSpPr/>
            <p:nvPr/>
          </p:nvSpPr>
          <p:spPr>
            <a:xfrm>
              <a:off x="461880" y="6261120"/>
              <a:ext cx="54936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6"/>
            <p:cNvSpPr/>
            <p:nvPr/>
          </p:nvSpPr>
          <p:spPr>
            <a:xfrm>
              <a:off x="877680" y="6159600"/>
              <a:ext cx="986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7"/>
            <p:cNvSpPr/>
            <p:nvPr/>
          </p:nvSpPr>
          <p:spPr>
            <a:xfrm>
              <a:off x="804600" y="6059520"/>
              <a:ext cx="7308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8"/>
            <p:cNvSpPr/>
            <p:nvPr/>
          </p:nvSpPr>
          <p:spPr>
            <a:xfrm>
              <a:off x="595080" y="6059520"/>
              <a:ext cx="73080" cy="9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9"/>
            <p:cNvSpPr/>
            <p:nvPr/>
          </p:nvSpPr>
          <p:spPr>
            <a:xfrm>
              <a:off x="496800" y="6159600"/>
              <a:ext cx="9828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3"/>
          <p:cNvGrpSpPr/>
          <p:nvPr/>
        </p:nvGrpSpPr>
        <p:grpSpPr>
          <a:xfrm>
            <a:off x="0" y="5229360"/>
            <a:ext cx="3348000" cy="1101600"/>
            <a:chOff x="0" y="5229360"/>
            <a:chExt cx="3348000" cy="1101600"/>
          </a:xfrm>
        </p:grpSpPr>
        <p:sp>
          <p:nvSpPr>
            <p:cNvPr id="191" name="Rectangle 7"/>
            <p:cNvSpPr/>
            <p:nvPr/>
          </p:nvSpPr>
          <p:spPr>
            <a:xfrm>
              <a:off x="0" y="5229360"/>
              <a:ext cx="3348000" cy="110160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75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57120" y="5362560"/>
              <a:ext cx="269568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c0c0c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31840" y="1412640"/>
            <a:ext cx="6902640" cy="410364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lIns="126000" rIns="126000" tIns="126000" bIns="1260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photo-libre.fr/business/60a.jpg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0" descr="3963503954_f98baa1723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6146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2445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rbel"/>
              </a:rPr>
              <a:t>The Inclusive Business Challenge: </a:t>
            </a:r>
            <a:br>
              <a:rPr sz="3200"/>
            </a:br>
            <a:r>
              <a:rPr b="1" i="1" lang="en-GB" sz="2800" spc="-1" strike="noStrike">
                <a:solidFill>
                  <a:srgbClr val="ffffff"/>
                </a:solidFill>
                <a:latin typeface="Corbel"/>
              </a:rPr>
              <a:t>Identifying opportunities to engage low-income communities across the value chain </a:t>
            </a:r>
            <a:endParaRPr b="0" lang="en-US" sz="2800" spc="-1" strike="noStrike">
              <a:solidFill>
                <a:srgbClr val="c0c0c0"/>
              </a:solidFill>
              <a:latin typeface="Corbel"/>
            </a:endParaRPr>
          </a:p>
        </p:txBody>
      </p:sp>
      <p:grpSp>
        <p:nvGrpSpPr>
          <p:cNvPr id="240" name="Group 96"/>
          <p:cNvGrpSpPr/>
          <p:nvPr/>
        </p:nvGrpSpPr>
        <p:grpSpPr>
          <a:xfrm>
            <a:off x="6222960" y="3916440"/>
            <a:ext cx="5841720" cy="5882400"/>
            <a:chOff x="6222960" y="3916440"/>
            <a:chExt cx="5841720" cy="5882400"/>
          </a:xfrm>
        </p:grpSpPr>
        <p:sp>
          <p:nvSpPr>
            <p:cNvPr id="241" name="Freeform 97"/>
            <p:cNvSpPr/>
            <p:nvPr/>
          </p:nvSpPr>
          <p:spPr>
            <a:xfrm>
              <a:off x="8326440" y="5476680"/>
              <a:ext cx="1608120" cy="800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8"/>
            <p:cNvSpPr/>
            <p:nvPr/>
          </p:nvSpPr>
          <p:spPr>
            <a:xfrm>
              <a:off x="9217800" y="6963120"/>
              <a:ext cx="1285560" cy="126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9"/>
            <p:cNvSpPr/>
            <p:nvPr/>
          </p:nvSpPr>
          <p:spPr>
            <a:xfrm>
              <a:off x="9217800" y="5877360"/>
              <a:ext cx="1285560" cy="14598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0"/>
            <p:cNvSpPr/>
            <p:nvPr/>
          </p:nvSpPr>
          <p:spPr>
            <a:xfrm>
              <a:off x="7757280" y="5882760"/>
              <a:ext cx="1285560" cy="14544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1"/>
            <p:cNvSpPr/>
            <p:nvPr/>
          </p:nvSpPr>
          <p:spPr>
            <a:xfrm>
              <a:off x="7757280" y="6968520"/>
              <a:ext cx="1290960" cy="1259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2"/>
            <p:cNvSpPr/>
            <p:nvPr/>
          </p:nvSpPr>
          <p:spPr>
            <a:xfrm>
              <a:off x="6903000" y="6130080"/>
              <a:ext cx="19476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3"/>
            <p:cNvSpPr/>
            <p:nvPr/>
          </p:nvSpPr>
          <p:spPr>
            <a:xfrm>
              <a:off x="11316240" y="6446880"/>
              <a:ext cx="10080" cy="46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4"/>
            <p:cNvSpPr/>
            <p:nvPr/>
          </p:nvSpPr>
          <p:spPr>
            <a:xfrm>
              <a:off x="11242080" y="6140880"/>
              <a:ext cx="5040" cy="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5"/>
            <p:cNvSpPr/>
            <p:nvPr/>
          </p:nvSpPr>
          <p:spPr>
            <a:xfrm>
              <a:off x="11168640" y="6125400"/>
              <a:ext cx="189360" cy="3261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6"/>
            <p:cNvSpPr/>
            <p:nvPr/>
          </p:nvSpPr>
          <p:spPr>
            <a:xfrm>
              <a:off x="7393320" y="5155200"/>
              <a:ext cx="32148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7"/>
            <p:cNvSpPr/>
            <p:nvPr/>
          </p:nvSpPr>
          <p:spPr>
            <a:xfrm>
              <a:off x="8358120" y="4633560"/>
              <a:ext cx="379440" cy="2109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8"/>
            <p:cNvSpPr/>
            <p:nvPr/>
          </p:nvSpPr>
          <p:spPr>
            <a:xfrm>
              <a:off x="9544320" y="4638960"/>
              <a:ext cx="374760" cy="205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9"/>
            <p:cNvSpPr/>
            <p:nvPr/>
          </p:nvSpPr>
          <p:spPr>
            <a:xfrm>
              <a:off x="10557000" y="5149800"/>
              <a:ext cx="326160" cy="3268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0"/>
            <p:cNvSpPr/>
            <p:nvPr/>
          </p:nvSpPr>
          <p:spPr>
            <a:xfrm>
              <a:off x="8769600" y="3916440"/>
              <a:ext cx="743040" cy="113292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1"/>
            <p:cNvSpPr/>
            <p:nvPr/>
          </p:nvSpPr>
          <p:spPr>
            <a:xfrm>
              <a:off x="6222960" y="6483240"/>
              <a:ext cx="5841720" cy="33156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2"/>
            <p:cNvSpPr/>
            <p:nvPr/>
          </p:nvSpPr>
          <p:spPr>
            <a:xfrm>
              <a:off x="10651320" y="5392440"/>
              <a:ext cx="104904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13"/>
            <p:cNvSpPr/>
            <p:nvPr/>
          </p:nvSpPr>
          <p:spPr>
            <a:xfrm>
              <a:off x="9860400" y="4327560"/>
              <a:ext cx="7905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4"/>
            <p:cNvSpPr/>
            <p:nvPr/>
          </p:nvSpPr>
          <p:spPr>
            <a:xfrm>
              <a:off x="7619760" y="4327560"/>
              <a:ext cx="7959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5"/>
            <p:cNvSpPr/>
            <p:nvPr/>
          </p:nvSpPr>
          <p:spPr>
            <a:xfrm>
              <a:off x="6591600" y="5413320"/>
              <a:ext cx="104976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0" y="5749920"/>
            <a:ext cx="2843280" cy="934920"/>
            <a:chOff x="0" y="5749920"/>
            <a:chExt cx="2843280" cy="934920"/>
          </a:xfrm>
        </p:grpSpPr>
        <p:sp>
          <p:nvSpPr>
            <p:cNvPr id="261" name="Rectangle 7"/>
            <p:cNvSpPr/>
            <p:nvPr/>
          </p:nvSpPr>
          <p:spPr>
            <a:xfrm>
              <a:off x="0" y="5749920"/>
              <a:ext cx="2843280" cy="934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47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01680" y="5859360"/>
              <a:ext cx="229212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5040" y="3428640"/>
            <a:ext cx="4576680" cy="76356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2621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  <a:ea typeface="DotumChe"/>
              </a:rPr>
              <a:t>December 2009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50" descr="3963503954_f98baa1723_b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2680" y="1699920"/>
            <a:ext cx="5413680" cy="259236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rbel"/>
              </a:rPr>
              <a:t>Thank you</a:t>
            </a: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ww.wbcsd.or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478" name="Group 96"/>
          <p:cNvGrpSpPr/>
          <p:nvPr/>
        </p:nvGrpSpPr>
        <p:grpSpPr>
          <a:xfrm>
            <a:off x="6222960" y="3916440"/>
            <a:ext cx="5841720" cy="5882400"/>
            <a:chOff x="6222960" y="3916440"/>
            <a:chExt cx="5841720" cy="5882400"/>
          </a:xfrm>
        </p:grpSpPr>
        <p:sp>
          <p:nvSpPr>
            <p:cNvPr id="479" name="Freeform 97"/>
            <p:cNvSpPr/>
            <p:nvPr/>
          </p:nvSpPr>
          <p:spPr>
            <a:xfrm>
              <a:off x="8326440" y="5476680"/>
              <a:ext cx="1608120" cy="800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8"/>
            <p:cNvSpPr/>
            <p:nvPr/>
          </p:nvSpPr>
          <p:spPr>
            <a:xfrm>
              <a:off x="9217800" y="6963120"/>
              <a:ext cx="1285560" cy="126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99"/>
            <p:cNvSpPr/>
            <p:nvPr/>
          </p:nvSpPr>
          <p:spPr>
            <a:xfrm>
              <a:off x="9217800" y="5877360"/>
              <a:ext cx="1285560" cy="14598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00"/>
            <p:cNvSpPr/>
            <p:nvPr/>
          </p:nvSpPr>
          <p:spPr>
            <a:xfrm>
              <a:off x="7757280" y="5882760"/>
              <a:ext cx="1285560" cy="14544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01"/>
            <p:cNvSpPr/>
            <p:nvPr/>
          </p:nvSpPr>
          <p:spPr>
            <a:xfrm>
              <a:off x="7757280" y="6968520"/>
              <a:ext cx="1290960" cy="12596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2"/>
            <p:cNvSpPr/>
            <p:nvPr/>
          </p:nvSpPr>
          <p:spPr>
            <a:xfrm>
              <a:off x="6903000" y="6130080"/>
              <a:ext cx="19476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3"/>
            <p:cNvSpPr/>
            <p:nvPr/>
          </p:nvSpPr>
          <p:spPr>
            <a:xfrm>
              <a:off x="11316240" y="6446880"/>
              <a:ext cx="10080" cy="46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04"/>
            <p:cNvSpPr/>
            <p:nvPr/>
          </p:nvSpPr>
          <p:spPr>
            <a:xfrm>
              <a:off x="11242080" y="6140880"/>
              <a:ext cx="5040" cy="504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05"/>
            <p:cNvSpPr/>
            <p:nvPr/>
          </p:nvSpPr>
          <p:spPr>
            <a:xfrm>
              <a:off x="11168640" y="6125400"/>
              <a:ext cx="189360" cy="3261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6"/>
            <p:cNvSpPr/>
            <p:nvPr/>
          </p:nvSpPr>
          <p:spPr>
            <a:xfrm>
              <a:off x="7393320" y="5155200"/>
              <a:ext cx="321480" cy="3214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07"/>
            <p:cNvSpPr/>
            <p:nvPr/>
          </p:nvSpPr>
          <p:spPr>
            <a:xfrm>
              <a:off x="8358120" y="4633560"/>
              <a:ext cx="379440" cy="2109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8"/>
            <p:cNvSpPr/>
            <p:nvPr/>
          </p:nvSpPr>
          <p:spPr>
            <a:xfrm>
              <a:off x="9544320" y="4638960"/>
              <a:ext cx="374760" cy="205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9"/>
            <p:cNvSpPr/>
            <p:nvPr/>
          </p:nvSpPr>
          <p:spPr>
            <a:xfrm>
              <a:off x="10557000" y="5149800"/>
              <a:ext cx="326160" cy="3268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10"/>
            <p:cNvSpPr/>
            <p:nvPr/>
          </p:nvSpPr>
          <p:spPr>
            <a:xfrm>
              <a:off x="8769600" y="3916440"/>
              <a:ext cx="743040" cy="113292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1"/>
            <p:cNvSpPr/>
            <p:nvPr/>
          </p:nvSpPr>
          <p:spPr>
            <a:xfrm>
              <a:off x="6222960" y="6483240"/>
              <a:ext cx="5841720" cy="331560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12"/>
            <p:cNvSpPr/>
            <p:nvPr/>
          </p:nvSpPr>
          <p:spPr>
            <a:xfrm>
              <a:off x="10651320" y="5392440"/>
              <a:ext cx="104904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13"/>
            <p:cNvSpPr/>
            <p:nvPr/>
          </p:nvSpPr>
          <p:spPr>
            <a:xfrm>
              <a:off x="9860400" y="4327560"/>
              <a:ext cx="7905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14"/>
            <p:cNvSpPr/>
            <p:nvPr/>
          </p:nvSpPr>
          <p:spPr>
            <a:xfrm>
              <a:off x="7619760" y="4327560"/>
              <a:ext cx="795960" cy="104328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15"/>
            <p:cNvSpPr/>
            <p:nvPr/>
          </p:nvSpPr>
          <p:spPr>
            <a:xfrm>
              <a:off x="6591600" y="5413320"/>
              <a:ext cx="1049760" cy="790560"/>
            </a:xfrm>
            <a:prstGeom prst="pie">
              <a:avLst/>
            </a:prstGeom>
            <a:noFill/>
            <a:ln w="19080">
              <a:solidFill>
                <a:srgbClr val="dddddd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45"/>
          <p:cNvGrpSpPr/>
          <p:nvPr/>
        </p:nvGrpSpPr>
        <p:grpSpPr>
          <a:xfrm>
            <a:off x="0" y="5749920"/>
            <a:ext cx="2843280" cy="934920"/>
            <a:chOff x="0" y="5749920"/>
            <a:chExt cx="2843280" cy="934920"/>
          </a:xfrm>
        </p:grpSpPr>
        <p:sp>
          <p:nvSpPr>
            <p:cNvPr id="499" name="Rectangle 7"/>
            <p:cNvSpPr/>
            <p:nvPr/>
          </p:nvSpPr>
          <p:spPr>
            <a:xfrm>
              <a:off x="0" y="5749920"/>
              <a:ext cx="2843280" cy="934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47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01680" y="5859360"/>
              <a:ext cx="229212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3962726419_dff294651d_b"/>
          <p:cNvPicPr/>
          <p:nvPr/>
        </p:nvPicPr>
        <p:blipFill>
          <a:blip r:embed="rId1"/>
          <a:srcRect l="554" t="0" r="5924" b="0"/>
          <a:stretch/>
        </p:blipFill>
        <p:spPr>
          <a:xfrm>
            <a:off x="0" y="0"/>
            <a:ext cx="9145440" cy="68756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325520" y="1341360"/>
            <a:ext cx="7818480" cy="3888000"/>
          </a:xfrm>
          <a:prstGeom prst="rect">
            <a:avLst/>
          </a:prstGeom>
          <a:noFill/>
          <a:ln w="0">
            <a:noFill/>
          </a:ln>
        </p:spPr>
        <p:txBody>
          <a:bodyPr lIns="126000" rIns="126000" tIns="126000" bIns="126000" anchor="t">
            <a:normAutofit/>
          </a:bodyPr>
          <a:p>
            <a:pPr marL="358920" indent="-35892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AutoNum type="arabicPeriod"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orbel"/>
              </a:rPr>
              <a:t>Getting started: </a:t>
            </a:r>
            <a:r>
              <a:rPr b="0" i="1" lang="en-GB" sz="2800" spc="-1" strike="noStrike">
                <a:solidFill>
                  <a:srgbClr val="b2b2b2"/>
                </a:solidFill>
                <a:latin typeface="Corbel"/>
              </a:rPr>
              <a:t>Challenge to opportun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35892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AutoNum type="arabicPeriod"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rbel"/>
              </a:rPr>
              <a:t>Defining the issues</a:t>
            </a:r>
            <a:r>
              <a:rPr b="1" i="1" lang="en-GB" sz="2800" spc="-1" strike="noStrike">
                <a:solidFill>
                  <a:srgbClr val="ffffff"/>
                </a:solidFill>
                <a:latin typeface="Corbel"/>
              </a:rPr>
              <a:t>: Debates and dilem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35892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AutoNum type="arabicPeriod"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orbel"/>
              </a:rPr>
              <a:t>Learning from experience: </a:t>
            </a:r>
            <a:r>
              <a:rPr b="0" i="1" lang="en-GB" sz="2800" spc="-1" strike="noStrike">
                <a:solidFill>
                  <a:srgbClr val="b2b2b2"/>
                </a:solidFill>
                <a:latin typeface="Corbel"/>
              </a:rPr>
              <a:t>Case study examp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35892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AutoNum type="arabicPeriod"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orbel"/>
              </a:rPr>
              <a:t>Building inclusive business: </a:t>
            </a:r>
            <a:r>
              <a:rPr b="0" i="1" lang="en-GB" sz="2800" spc="-1" strike="noStrike">
                <a:solidFill>
                  <a:srgbClr val="b2b2b2"/>
                </a:solidFill>
                <a:latin typeface="Corbe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-358920">
              <a:lnSpc>
                <a:spcPct val="90000"/>
              </a:lnSpc>
              <a:spcBef>
                <a:spcPts val="1049"/>
              </a:spcBef>
              <a:buClr>
                <a:srgbClr val="cc3333"/>
              </a:buClr>
              <a:buFont typeface="Corbel"/>
              <a:buAutoNum type="arabicPeriod"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2b2b2"/>
                </a:solidFill>
                <a:latin typeface="Corbel"/>
              </a:rPr>
              <a:t>Making it happen: </a:t>
            </a:r>
            <a:r>
              <a:rPr b="0" i="1" lang="en-GB" sz="2800" spc="-1" strike="noStrike">
                <a:solidFill>
                  <a:srgbClr val="b2b2b2"/>
                </a:solidFill>
                <a:latin typeface="Corbel"/>
              </a:rPr>
              <a:t>Aspirations and actio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8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3916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67" name="Group 73"/>
          <p:cNvGrpSpPr/>
          <p:nvPr/>
        </p:nvGrpSpPr>
        <p:grpSpPr>
          <a:xfrm>
            <a:off x="6222960" y="3916440"/>
            <a:ext cx="5841720" cy="5882400"/>
            <a:chOff x="6222960" y="3916440"/>
            <a:chExt cx="5841720" cy="5882400"/>
          </a:xfrm>
        </p:grpSpPr>
        <p:sp>
          <p:nvSpPr>
            <p:cNvPr id="268" name="Freeform 74"/>
            <p:cNvSpPr/>
            <p:nvPr/>
          </p:nvSpPr>
          <p:spPr>
            <a:xfrm>
              <a:off x="8326440" y="5476680"/>
              <a:ext cx="1608120" cy="8006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5"/>
            <p:cNvSpPr/>
            <p:nvPr/>
          </p:nvSpPr>
          <p:spPr>
            <a:xfrm>
              <a:off x="9217800" y="6963120"/>
              <a:ext cx="1285560" cy="12650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6"/>
            <p:cNvSpPr/>
            <p:nvPr/>
          </p:nvSpPr>
          <p:spPr>
            <a:xfrm>
              <a:off x="9217800" y="5877360"/>
              <a:ext cx="1285560" cy="14598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7"/>
            <p:cNvSpPr/>
            <p:nvPr/>
          </p:nvSpPr>
          <p:spPr>
            <a:xfrm>
              <a:off x="7757280" y="5882760"/>
              <a:ext cx="1285560" cy="14544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78"/>
            <p:cNvSpPr/>
            <p:nvPr/>
          </p:nvSpPr>
          <p:spPr>
            <a:xfrm>
              <a:off x="7757280" y="6968520"/>
              <a:ext cx="1290960" cy="12596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79"/>
            <p:cNvSpPr/>
            <p:nvPr/>
          </p:nvSpPr>
          <p:spPr>
            <a:xfrm>
              <a:off x="6903000" y="6130080"/>
              <a:ext cx="194760" cy="3214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0"/>
            <p:cNvSpPr/>
            <p:nvPr/>
          </p:nvSpPr>
          <p:spPr>
            <a:xfrm>
              <a:off x="11316240" y="6446880"/>
              <a:ext cx="10080" cy="46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1"/>
            <p:cNvSpPr/>
            <p:nvPr/>
          </p:nvSpPr>
          <p:spPr>
            <a:xfrm>
              <a:off x="11242080" y="6140880"/>
              <a:ext cx="5040" cy="504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2"/>
            <p:cNvSpPr/>
            <p:nvPr/>
          </p:nvSpPr>
          <p:spPr>
            <a:xfrm>
              <a:off x="11168640" y="6125400"/>
              <a:ext cx="189360" cy="3261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3"/>
            <p:cNvSpPr/>
            <p:nvPr/>
          </p:nvSpPr>
          <p:spPr>
            <a:xfrm>
              <a:off x="7393320" y="5155200"/>
              <a:ext cx="321480" cy="3214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4"/>
            <p:cNvSpPr/>
            <p:nvPr/>
          </p:nvSpPr>
          <p:spPr>
            <a:xfrm>
              <a:off x="8358120" y="4633560"/>
              <a:ext cx="379440" cy="20772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5"/>
            <p:cNvSpPr/>
            <p:nvPr/>
          </p:nvSpPr>
          <p:spPr>
            <a:xfrm>
              <a:off x="9544320" y="4638960"/>
              <a:ext cx="374760" cy="205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6"/>
            <p:cNvSpPr/>
            <p:nvPr/>
          </p:nvSpPr>
          <p:spPr>
            <a:xfrm>
              <a:off x="10557000" y="5149800"/>
              <a:ext cx="326160" cy="3268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7"/>
            <p:cNvSpPr/>
            <p:nvPr/>
          </p:nvSpPr>
          <p:spPr>
            <a:xfrm>
              <a:off x="8769600" y="3916440"/>
              <a:ext cx="743040" cy="113292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88"/>
            <p:cNvSpPr/>
            <p:nvPr/>
          </p:nvSpPr>
          <p:spPr>
            <a:xfrm>
              <a:off x="6222960" y="6483240"/>
              <a:ext cx="5841720" cy="331560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89"/>
            <p:cNvSpPr/>
            <p:nvPr/>
          </p:nvSpPr>
          <p:spPr>
            <a:xfrm>
              <a:off x="10651320" y="5392440"/>
              <a:ext cx="1049040" cy="790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0"/>
            <p:cNvSpPr/>
            <p:nvPr/>
          </p:nvSpPr>
          <p:spPr>
            <a:xfrm>
              <a:off x="9860400" y="4327560"/>
              <a:ext cx="790560" cy="10432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1"/>
            <p:cNvSpPr/>
            <p:nvPr/>
          </p:nvSpPr>
          <p:spPr>
            <a:xfrm>
              <a:off x="7619760" y="4327560"/>
              <a:ext cx="795960" cy="104328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2"/>
            <p:cNvSpPr/>
            <p:nvPr/>
          </p:nvSpPr>
          <p:spPr>
            <a:xfrm>
              <a:off x="6591600" y="5413320"/>
              <a:ext cx="1049760" cy="790560"/>
            </a:xfrm>
            <a:prstGeom prst="pie">
              <a:avLst/>
            </a:prstGeom>
            <a:noFill/>
            <a:ln w="1908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0" y="5749920"/>
            <a:ext cx="2843280" cy="934920"/>
            <a:chOff x="0" y="5749920"/>
            <a:chExt cx="2843280" cy="934920"/>
          </a:xfrm>
        </p:grpSpPr>
        <p:sp>
          <p:nvSpPr>
            <p:cNvPr id="288" name="Rectangle 7"/>
            <p:cNvSpPr/>
            <p:nvPr/>
          </p:nvSpPr>
          <p:spPr>
            <a:xfrm>
              <a:off x="0" y="5749920"/>
              <a:ext cx="2843280" cy="934920"/>
            </a:xfrm>
            <a:prstGeom prst="rect">
              <a:avLst/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29" descr="wbcsd FLT WHITE OUTLOGO"/>
            <p:cNvPicPr/>
            <p:nvPr/>
          </p:nvPicPr>
          <p:blipFill>
            <a:blip r:embed="rId2"/>
            <a:stretch/>
          </p:blipFill>
          <p:spPr>
            <a:xfrm>
              <a:off x="301680" y="5859360"/>
              <a:ext cx="229212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360" y="333000"/>
            <a:ext cx="820872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Business contribution to developmen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Oval 16"/>
          <p:cNvSpPr/>
          <p:nvPr/>
        </p:nvSpPr>
        <p:spPr>
          <a:xfrm>
            <a:off x="3132000" y="3141720"/>
            <a:ext cx="1224000" cy="720720"/>
          </a:xfrm>
          <a:prstGeom prst="ellipse">
            <a:avLst/>
          </a:prstGeom>
          <a:solidFill>
            <a:srgbClr val="cc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6156360" y="3716280"/>
            <a:ext cx="2808360" cy="295272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234000" tIns="126000" bIns="1260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Corporations are social institutions.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If they don't serve society, they have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no business existing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GB" sz="1600" spc="-1" strike="noStrike">
                <a:solidFill>
                  <a:srgbClr val="cc3333"/>
                </a:solidFill>
                <a:latin typeface="Corbel"/>
              </a:rPr>
              <a:t>Henry Mintzberg, </a:t>
            </a:r>
            <a:r>
              <a:rPr b="0" i="1" lang="en-GB" sz="1600" spc="-1" strike="noStrike">
                <a:solidFill>
                  <a:srgbClr val="cc3333"/>
                </a:solidFill>
                <a:latin typeface="Corbel"/>
              </a:rPr>
              <a:t>Professor, McGil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1"/>
          <p:cNvSpPr/>
          <p:nvPr/>
        </p:nvSpPr>
        <p:spPr>
          <a:xfrm>
            <a:off x="8028000" y="189000"/>
            <a:ext cx="43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72"/>
          <p:cNvGrpSpPr/>
          <p:nvPr/>
        </p:nvGrpSpPr>
        <p:grpSpPr>
          <a:xfrm>
            <a:off x="1875600" y="1739880"/>
            <a:ext cx="3754080" cy="3537360"/>
            <a:chOff x="1875600" y="1739880"/>
            <a:chExt cx="3754080" cy="3537360"/>
          </a:xfrm>
        </p:grpSpPr>
        <p:sp>
          <p:nvSpPr>
            <p:cNvPr id="296" name="WordArt 24"/>
            <p:cNvSpPr txBox="1"/>
            <p:nvPr/>
          </p:nvSpPr>
          <p:spPr>
            <a:xfrm rot="8011800">
              <a:off x="3203280" y="3284280"/>
              <a:ext cx="2173320" cy="142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9279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Technology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297" name="WordArt 29"/>
            <p:cNvSpPr txBox="1"/>
            <p:nvPr/>
          </p:nvSpPr>
          <p:spPr>
            <a:xfrm rot="1635600">
              <a:off x="2788920" y="2205000"/>
              <a:ext cx="2519280" cy="2013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2215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Innovation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298" name="WordArt 30"/>
            <p:cNvSpPr txBox="1"/>
            <p:nvPr/>
          </p:nvSpPr>
          <p:spPr>
            <a:xfrm rot="18422400">
              <a:off x="2059560" y="2437920"/>
              <a:ext cx="2130480" cy="15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949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Service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299" name="WordArt 34"/>
            <p:cNvSpPr txBox="1"/>
            <p:nvPr/>
          </p:nvSpPr>
          <p:spPr>
            <a:xfrm rot="13271400">
              <a:off x="2124000" y="3788640"/>
              <a:ext cx="1673280" cy="795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5005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Training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00" name="Oval 46"/>
            <p:cNvSpPr/>
            <p:nvPr/>
          </p:nvSpPr>
          <p:spPr>
            <a:xfrm>
              <a:off x="2212920" y="371628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1"/>
            <p:cNvSpPr/>
            <p:nvPr/>
          </p:nvSpPr>
          <p:spPr>
            <a:xfrm>
              <a:off x="3508200" y="4869000"/>
              <a:ext cx="71640" cy="727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52"/>
            <p:cNvSpPr/>
            <p:nvPr/>
          </p:nvSpPr>
          <p:spPr>
            <a:xfrm>
              <a:off x="5164200" y="3213000"/>
              <a:ext cx="7128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3"/>
            <p:cNvSpPr/>
            <p:nvPr/>
          </p:nvSpPr>
          <p:spPr>
            <a:xfrm>
              <a:off x="3363840" y="213372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75"/>
          <p:cNvGrpSpPr/>
          <p:nvPr/>
        </p:nvGrpSpPr>
        <p:grpSpPr>
          <a:xfrm>
            <a:off x="2789640" y="2613600"/>
            <a:ext cx="1960920" cy="1733760"/>
            <a:chOff x="2789640" y="2613600"/>
            <a:chExt cx="1960920" cy="1733760"/>
          </a:xfrm>
        </p:grpSpPr>
        <p:sp>
          <p:nvSpPr>
            <p:cNvPr id="305" name="WordArt 25"/>
            <p:cNvSpPr txBox="1"/>
            <p:nvPr/>
          </p:nvSpPr>
          <p:spPr>
            <a:xfrm>
              <a:off x="3273480" y="2854440"/>
              <a:ext cx="1008000" cy="574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216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Job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06" name="WordArt 26"/>
            <p:cNvSpPr txBox="1"/>
            <p:nvPr/>
          </p:nvSpPr>
          <p:spPr>
            <a:xfrm rot="7518600">
              <a:off x="3259080" y="2866680"/>
              <a:ext cx="1255680" cy="1227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815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Taxe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07" name="WordArt 35"/>
            <p:cNvSpPr txBox="1"/>
            <p:nvPr/>
          </p:nvSpPr>
          <p:spPr>
            <a:xfrm rot="14250600">
              <a:off x="2809800" y="3369960"/>
              <a:ext cx="880920" cy="532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4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Good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08" name="Oval 62"/>
            <p:cNvSpPr/>
            <p:nvPr/>
          </p:nvSpPr>
          <p:spPr>
            <a:xfrm>
              <a:off x="3632040" y="407664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63"/>
            <p:cNvSpPr/>
            <p:nvPr/>
          </p:nvSpPr>
          <p:spPr>
            <a:xfrm>
              <a:off x="3057480" y="299556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4"/>
            <p:cNvSpPr/>
            <p:nvPr/>
          </p:nvSpPr>
          <p:spPr>
            <a:xfrm>
              <a:off x="4352760" y="306864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74"/>
          <p:cNvGrpSpPr/>
          <p:nvPr/>
        </p:nvGrpSpPr>
        <p:grpSpPr>
          <a:xfrm>
            <a:off x="1546200" y="1484280"/>
            <a:ext cx="4595400" cy="4247280"/>
            <a:chOff x="1546200" y="1484280"/>
            <a:chExt cx="4595400" cy="4247280"/>
          </a:xfrm>
        </p:grpSpPr>
        <p:sp>
          <p:nvSpPr>
            <p:cNvPr id="312" name="WordArt 37"/>
            <p:cNvSpPr txBox="1"/>
            <p:nvPr/>
          </p:nvSpPr>
          <p:spPr>
            <a:xfrm rot="11242200">
              <a:off x="2338560" y="4941360"/>
              <a:ext cx="2232000" cy="649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8286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Philanthropy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13" name="WordArt 38"/>
            <p:cNvSpPr txBox="1"/>
            <p:nvPr/>
          </p:nvSpPr>
          <p:spPr>
            <a:xfrm rot="16200000">
              <a:off x="893520" y="2559960"/>
              <a:ext cx="3249720" cy="1944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72330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Labour standard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14" name="WordArt 39"/>
            <p:cNvSpPr txBox="1"/>
            <p:nvPr/>
          </p:nvSpPr>
          <p:spPr>
            <a:xfrm rot="5794200">
              <a:off x="2770560" y="2348280"/>
              <a:ext cx="3673440" cy="2665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45127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Environmental standards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15" name="WordArt 23"/>
            <p:cNvSpPr txBox="1"/>
            <p:nvPr/>
          </p:nvSpPr>
          <p:spPr>
            <a:xfrm>
              <a:off x="2411280" y="1484280"/>
              <a:ext cx="2519640" cy="92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0076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cc3333"/>
                    </a:solidFill>
                    <a:miter/>
                  </a:ln>
                  <a:solidFill>
                    <a:srgbClr val="cc3333"/>
                  </a:solidFill>
                  <a:latin typeface="Corbel"/>
                </a:rPr>
                <a:t>Infrastructure</a:t>
              </a:r>
              <a:endParaRPr b="0" lang="en-US" sz="3200" spc="1" strike="noStrike">
                <a:ln w="9360">
                  <a:solidFill>
                    <a:srgbClr val="cc3333"/>
                  </a:solidFill>
                  <a:miter/>
                </a:ln>
                <a:solidFill>
                  <a:srgbClr val="cc3333"/>
                </a:solidFill>
                <a:latin typeface="Corbel"/>
                <a:ea typeface="Corbel"/>
              </a:endParaRPr>
            </a:p>
          </p:txBody>
        </p:sp>
        <p:sp>
          <p:nvSpPr>
            <p:cNvPr id="316" name="Oval 65"/>
            <p:cNvSpPr/>
            <p:nvPr/>
          </p:nvSpPr>
          <p:spPr>
            <a:xfrm>
              <a:off x="4572000" y="5516640"/>
              <a:ext cx="7128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6"/>
            <p:cNvSpPr/>
            <p:nvPr/>
          </p:nvSpPr>
          <p:spPr>
            <a:xfrm>
              <a:off x="2266920" y="515628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7"/>
            <p:cNvSpPr/>
            <p:nvPr/>
          </p:nvSpPr>
          <p:spPr>
            <a:xfrm>
              <a:off x="2266920" y="1773360"/>
              <a:ext cx="7164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8"/>
            <p:cNvSpPr/>
            <p:nvPr/>
          </p:nvSpPr>
          <p:spPr>
            <a:xfrm>
              <a:off x="4932360" y="1771560"/>
              <a:ext cx="71280" cy="73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303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Why now? Why change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22" name="Group 42"/>
          <p:cNvGrpSpPr/>
          <p:nvPr/>
        </p:nvGrpSpPr>
        <p:grpSpPr>
          <a:xfrm>
            <a:off x="3000240" y="4572000"/>
            <a:ext cx="2879640" cy="1081080"/>
            <a:chOff x="3000240" y="4572000"/>
            <a:chExt cx="2879640" cy="1081080"/>
          </a:xfrm>
        </p:grpSpPr>
        <p:sp>
          <p:nvSpPr>
            <p:cNvPr id="323" name="AutoShape 12"/>
            <p:cNvSpPr/>
            <p:nvPr/>
          </p:nvSpPr>
          <p:spPr>
            <a:xfrm>
              <a:off x="3000240" y="4572000"/>
              <a:ext cx="2879640" cy="1081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cc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3143160" y="4643280"/>
              <a:ext cx="2592360" cy="916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Globalized economy and free movement of 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1"/>
          <p:cNvGrpSpPr/>
          <p:nvPr/>
        </p:nvGrpSpPr>
        <p:grpSpPr>
          <a:xfrm>
            <a:off x="142920" y="3214800"/>
            <a:ext cx="2879640" cy="1262520"/>
            <a:chOff x="142920" y="3214800"/>
            <a:chExt cx="2879640" cy="1262520"/>
          </a:xfrm>
        </p:grpSpPr>
        <p:sp>
          <p:nvSpPr>
            <p:cNvPr id="326" name="AutoShape 11"/>
            <p:cNvSpPr/>
            <p:nvPr/>
          </p:nvSpPr>
          <p:spPr>
            <a:xfrm>
              <a:off x="142920" y="3214800"/>
              <a:ext cx="2879640" cy="1081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cc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357120" y="3286080"/>
              <a:ext cx="2376720" cy="1191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Political pressure to affect poverty through goals &amp; targ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928800" y="1714680"/>
            <a:ext cx="2928600" cy="1131120"/>
            <a:chOff x="928800" y="1714680"/>
            <a:chExt cx="2928600" cy="1131120"/>
          </a:xfrm>
        </p:grpSpPr>
        <p:sp>
          <p:nvSpPr>
            <p:cNvPr id="329" name="AutoShape 10"/>
            <p:cNvSpPr/>
            <p:nvPr/>
          </p:nvSpPr>
          <p:spPr>
            <a:xfrm>
              <a:off x="928800" y="1714680"/>
              <a:ext cx="2928600" cy="1081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cc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"/>
            <p:cNvSpPr/>
            <p:nvPr/>
          </p:nvSpPr>
          <p:spPr>
            <a:xfrm>
              <a:off x="1073520" y="1928880"/>
              <a:ext cx="2688480" cy="916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Recognition of the drivers and impacts of  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44"/>
          <p:cNvGrpSpPr/>
          <p:nvPr/>
        </p:nvGrpSpPr>
        <p:grpSpPr>
          <a:xfrm>
            <a:off x="4692600" y="1704960"/>
            <a:ext cx="2879640" cy="1262520"/>
            <a:chOff x="4692600" y="1704960"/>
            <a:chExt cx="2879640" cy="1262520"/>
          </a:xfrm>
        </p:grpSpPr>
        <p:sp>
          <p:nvSpPr>
            <p:cNvPr id="332" name="AutoShape 14"/>
            <p:cNvSpPr/>
            <p:nvPr/>
          </p:nvSpPr>
          <p:spPr>
            <a:xfrm>
              <a:off x="4692600" y="1704960"/>
              <a:ext cx="2879640" cy="1081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cc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7"/>
            <p:cNvSpPr/>
            <p:nvPr/>
          </p:nvSpPr>
          <p:spPr>
            <a:xfrm>
              <a:off x="4763880" y="1776240"/>
              <a:ext cx="2664000" cy="1191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Increased expectations of the role of business in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43"/>
          <p:cNvGrpSpPr/>
          <p:nvPr/>
        </p:nvGrpSpPr>
        <p:grpSpPr>
          <a:xfrm>
            <a:off x="5572080" y="3143160"/>
            <a:ext cx="2879640" cy="1081080"/>
            <a:chOff x="5572080" y="3143160"/>
            <a:chExt cx="2879640" cy="1081080"/>
          </a:xfrm>
        </p:grpSpPr>
        <p:sp>
          <p:nvSpPr>
            <p:cNvPr id="335" name="AutoShape 13"/>
            <p:cNvSpPr/>
            <p:nvPr/>
          </p:nvSpPr>
          <p:spPr>
            <a:xfrm>
              <a:off x="5572080" y="3143160"/>
              <a:ext cx="2879640" cy="10810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38160">
              <a:solidFill>
                <a:srgbClr val="cc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8"/>
            <p:cNvSpPr/>
            <p:nvPr/>
          </p:nvSpPr>
          <p:spPr>
            <a:xfrm>
              <a:off x="5643360" y="3214440"/>
              <a:ext cx="2736720" cy="916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rbel"/>
                </a:rPr>
                <a:t>New information and communication techn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20" descr="C:\Documents and Settings\Katherine madden\Local Settings\Temporary Internet Files\Content.IE5\BYBH05RH\MCj04077340000[1].wmf"/>
          <p:cNvPicPr/>
          <p:nvPr/>
        </p:nvPicPr>
        <p:blipFill>
          <a:blip r:embed="rId2"/>
          <a:stretch/>
        </p:blipFill>
        <p:spPr>
          <a:xfrm>
            <a:off x="3786120" y="3141720"/>
            <a:ext cx="1073160" cy="1073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20"/>
          <p:cNvGrpSpPr/>
          <p:nvPr/>
        </p:nvGrpSpPr>
        <p:grpSpPr>
          <a:xfrm>
            <a:off x="4929120" y="1268280"/>
            <a:ext cx="2928960" cy="2372760"/>
            <a:chOff x="4929120" y="1268280"/>
            <a:chExt cx="2928960" cy="23727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4929120" y="1268280"/>
              <a:ext cx="292896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Box 8"/>
            <p:cNvSpPr/>
            <p:nvPr/>
          </p:nvSpPr>
          <p:spPr>
            <a:xfrm>
              <a:off x="4929120" y="2693880"/>
              <a:ext cx="250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Microfinanc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So what? Business action...</a:t>
            </a:r>
            <a:endParaRPr b="0" lang="en-US" sz="3600" spc="-1" strike="noStrike">
              <a:solidFill>
                <a:srgbClr val="c0c0c0"/>
              </a:solidFill>
              <a:latin typeface="Corbe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3071880" y="4143240"/>
            <a:ext cx="3143160" cy="2092320"/>
            <a:chOff x="3071880" y="4143240"/>
            <a:chExt cx="3143160" cy="2092320"/>
          </a:xfrm>
        </p:grpSpPr>
        <p:pic>
          <p:nvPicPr>
            <p:cNvPr id="344" name="Picture 17" descr="http://3.bp.blogspot.com/_uVfT6HnSd0A/SWx6cbHr2CI/AAAAAAAAAAc/BSyqkNwyZLY/s320/istock-social-network.jpg"/>
            <p:cNvPicPr/>
            <p:nvPr/>
          </p:nvPicPr>
          <p:blipFill>
            <a:blip r:embed="rId3"/>
            <a:stretch/>
          </p:blipFill>
          <p:spPr>
            <a:xfrm>
              <a:off x="3214440" y="4143240"/>
              <a:ext cx="1576440" cy="197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Box 11"/>
            <p:cNvSpPr/>
            <p:nvPr/>
          </p:nvSpPr>
          <p:spPr>
            <a:xfrm>
              <a:off x="3071880" y="5715000"/>
              <a:ext cx="31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SME linkag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30"/>
          <p:cNvGrpSpPr/>
          <p:nvPr/>
        </p:nvGrpSpPr>
        <p:grpSpPr>
          <a:xfrm>
            <a:off x="2714760" y="2206800"/>
            <a:ext cx="3357360" cy="2669760"/>
            <a:chOff x="2714760" y="2206800"/>
            <a:chExt cx="3357360" cy="2669760"/>
          </a:xfrm>
        </p:grpSpPr>
        <p:pic>
          <p:nvPicPr>
            <p:cNvPr id="347" name="Picture 19" descr="http://farm4.static.flickr.com/3177/2576654572_42c4ef4257.jpg"/>
            <p:cNvPicPr/>
            <p:nvPr/>
          </p:nvPicPr>
          <p:blipFill>
            <a:blip r:embed="rId4"/>
            <a:stretch/>
          </p:blipFill>
          <p:spPr>
            <a:xfrm>
              <a:off x="2786040" y="2206800"/>
              <a:ext cx="3286080" cy="21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Box 4"/>
            <p:cNvSpPr/>
            <p:nvPr/>
          </p:nvSpPr>
          <p:spPr>
            <a:xfrm>
              <a:off x="2714760" y="3929400"/>
              <a:ext cx="314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Inclusive Busin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29"/>
          <p:cNvGrpSpPr/>
          <p:nvPr/>
        </p:nvGrpSpPr>
        <p:grpSpPr>
          <a:xfrm>
            <a:off x="6143760" y="3214800"/>
            <a:ext cx="2947680" cy="1875960"/>
            <a:chOff x="6143760" y="3214800"/>
            <a:chExt cx="2947680" cy="1875960"/>
          </a:xfrm>
        </p:grpSpPr>
        <p:pic>
          <p:nvPicPr>
            <p:cNvPr id="350" name="Picture 25" descr="60a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195960" y="3214800"/>
              <a:ext cx="235044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5"/>
            <p:cNvSpPr/>
            <p:nvPr/>
          </p:nvSpPr>
          <p:spPr>
            <a:xfrm>
              <a:off x="6143760" y="4143600"/>
              <a:ext cx="2947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Soci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Investme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31"/>
          <p:cNvGrpSpPr/>
          <p:nvPr/>
        </p:nvGrpSpPr>
        <p:grpSpPr>
          <a:xfrm>
            <a:off x="214200" y="3714840"/>
            <a:ext cx="3500640" cy="1802880"/>
            <a:chOff x="214200" y="3714840"/>
            <a:chExt cx="3500640" cy="1802880"/>
          </a:xfrm>
        </p:grpSpPr>
        <p:pic>
          <p:nvPicPr>
            <p:cNvPr id="353" name="Picture 29" descr="http://www.rff.org/PublishingImages/Blogs/Weathervane/Posts/iStock_Scale.jpg"/>
            <p:cNvPicPr/>
            <p:nvPr/>
          </p:nvPicPr>
          <p:blipFill>
            <a:blip r:embed="rId7"/>
            <a:stretch/>
          </p:blipFill>
          <p:spPr>
            <a:xfrm>
              <a:off x="214200" y="3714840"/>
              <a:ext cx="192420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6"/>
            <p:cNvSpPr/>
            <p:nvPr/>
          </p:nvSpPr>
          <p:spPr>
            <a:xfrm>
              <a:off x="214200" y="4570560"/>
              <a:ext cx="3500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Corporate Social Respons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2"/>
          <p:cNvGrpSpPr/>
          <p:nvPr/>
        </p:nvGrpSpPr>
        <p:grpSpPr>
          <a:xfrm>
            <a:off x="214200" y="2741760"/>
            <a:ext cx="3143520" cy="1706040"/>
            <a:chOff x="214200" y="2741760"/>
            <a:chExt cx="3143520" cy="1706040"/>
          </a:xfrm>
        </p:grpSpPr>
        <p:pic>
          <p:nvPicPr>
            <p:cNvPr id="356" name="Picture 31" descr="http://media.readersdigest.com.au/dynamic/37/30/42/iStock_mongolia.jpg"/>
            <p:cNvPicPr/>
            <p:nvPr/>
          </p:nvPicPr>
          <p:blipFill>
            <a:blip r:embed="rId8"/>
            <a:stretch/>
          </p:blipFill>
          <p:spPr>
            <a:xfrm>
              <a:off x="279360" y="2741760"/>
              <a:ext cx="2491200" cy="16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Box 9"/>
            <p:cNvSpPr/>
            <p:nvPr/>
          </p:nvSpPr>
          <p:spPr>
            <a:xfrm>
              <a:off x="214200" y="3500640"/>
              <a:ext cx="314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Socia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enterpri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7"/>
          <p:cNvGrpSpPr/>
          <p:nvPr/>
        </p:nvGrpSpPr>
        <p:grpSpPr>
          <a:xfrm>
            <a:off x="1071720" y="1268280"/>
            <a:ext cx="2714400" cy="1687680"/>
            <a:chOff x="1071720" y="1268280"/>
            <a:chExt cx="2714400" cy="1687680"/>
          </a:xfrm>
        </p:grpSpPr>
        <p:pic>
          <p:nvPicPr>
            <p:cNvPr id="359" name="Picture 16" descr="iStock_000005425651XSmall.jpg"/>
            <p:cNvPicPr/>
            <p:nvPr/>
          </p:nvPicPr>
          <p:blipFill>
            <a:blip r:embed="rId9"/>
            <a:stretch/>
          </p:blipFill>
          <p:spPr>
            <a:xfrm>
              <a:off x="1135080" y="1268280"/>
              <a:ext cx="257940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13"/>
            <p:cNvSpPr/>
            <p:nvPr/>
          </p:nvSpPr>
          <p:spPr>
            <a:xfrm>
              <a:off x="1071720" y="2429280"/>
              <a:ext cx="27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Philanthrop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9"/>
          <p:cNvGrpSpPr/>
          <p:nvPr/>
        </p:nvGrpSpPr>
        <p:grpSpPr>
          <a:xfrm>
            <a:off x="6391440" y="4000680"/>
            <a:ext cx="1752480" cy="2631960"/>
            <a:chOff x="6391440" y="4000680"/>
            <a:chExt cx="1752480" cy="2631960"/>
          </a:xfrm>
        </p:grpSpPr>
        <p:pic>
          <p:nvPicPr>
            <p:cNvPr id="362" name="Picture 2" descr=""/>
            <p:cNvPicPr/>
            <p:nvPr/>
          </p:nvPicPr>
          <p:blipFill>
            <a:blip r:embed="rId10"/>
            <a:stretch/>
          </p:blipFill>
          <p:spPr>
            <a:xfrm>
              <a:off x="6462720" y="4000680"/>
              <a:ext cx="1398600" cy="21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7"/>
            <p:cNvSpPr/>
            <p:nvPr/>
          </p:nvSpPr>
          <p:spPr>
            <a:xfrm>
              <a:off x="6391440" y="5258880"/>
              <a:ext cx="1752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Bas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of th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33"/>
                  </a:solidFill>
                  <a:latin typeface="Corbel"/>
                </a:rPr>
                <a:t>Pyram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9"/>
          <p:cNvGrpSpPr/>
          <p:nvPr/>
        </p:nvGrpSpPr>
        <p:grpSpPr>
          <a:xfrm>
            <a:off x="0" y="1268280"/>
            <a:ext cx="8858160" cy="5589720"/>
            <a:chOff x="0" y="1268280"/>
            <a:chExt cx="8858160" cy="5589720"/>
          </a:xfrm>
        </p:grpSpPr>
        <p:sp>
          <p:nvSpPr>
            <p:cNvPr id="365" name="Rectangle 41"/>
            <p:cNvSpPr/>
            <p:nvPr/>
          </p:nvSpPr>
          <p:spPr>
            <a:xfrm>
              <a:off x="0" y="1268280"/>
              <a:ext cx="8858160" cy="444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48"/>
            <p:cNvSpPr/>
            <p:nvPr/>
          </p:nvSpPr>
          <p:spPr>
            <a:xfrm>
              <a:off x="2671560" y="5516640"/>
              <a:ext cx="61866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33"/>
          <p:cNvSpPr/>
          <p:nvPr/>
        </p:nvSpPr>
        <p:spPr>
          <a:xfrm>
            <a:off x="3071880" y="17002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Micro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5642640" y="2286000"/>
            <a:ext cx="33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Soci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5335920" y="428616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Base of the Pyr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1943280" y="312588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Inclusive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4437720" y="584028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SME lin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1060560" y="485784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Corporate Social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222480" y="385776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Social enter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-225360" y="185724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33"/>
                </a:solidFill>
                <a:latin typeface="Corbel"/>
              </a:rPr>
              <a:t>Philanthr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9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clusive busin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56800" y="1428840"/>
            <a:ext cx="79297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lnSpc>
                <a:spcPct val="9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Definition: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fitably engaging low-income populations across companies’ value chains and developing affordable products and services that meet the needs of low-income population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33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8" name="Group 67"/>
          <p:cNvGrpSpPr/>
          <p:nvPr/>
        </p:nvGrpSpPr>
        <p:grpSpPr>
          <a:xfrm>
            <a:off x="698400" y="3429000"/>
            <a:ext cx="7417800" cy="1715400"/>
            <a:chOff x="698400" y="3429000"/>
            <a:chExt cx="7417800" cy="1715400"/>
          </a:xfrm>
        </p:grpSpPr>
        <p:sp>
          <p:nvSpPr>
            <p:cNvPr id="379" name="Text Box 126"/>
            <p:cNvSpPr/>
            <p:nvPr/>
          </p:nvSpPr>
          <p:spPr>
            <a:xfrm>
              <a:off x="863280" y="4797720"/>
              <a:ext cx="8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9900"/>
                  </a:solidFill>
                  <a:latin typeface="Corbe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7"/>
            <p:cNvSpPr/>
            <p:nvPr/>
          </p:nvSpPr>
          <p:spPr>
            <a:xfrm>
              <a:off x="2700360" y="480708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9999"/>
                  </a:solidFill>
                  <a:latin typeface="Corbel"/>
                </a:rPr>
                <a:t>Procur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28"/>
            <p:cNvSpPr/>
            <p:nvPr/>
          </p:nvSpPr>
          <p:spPr>
            <a:xfrm>
              <a:off x="4773600" y="4807080"/>
              <a:ext cx="159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cc3333"/>
                  </a:solidFill>
                  <a:latin typeface="Corbel"/>
                </a:rPr>
                <a:t>Manufactu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9"/>
            <p:cNvSpPr/>
            <p:nvPr/>
          </p:nvSpPr>
          <p:spPr>
            <a:xfrm>
              <a:off x="6781680" y="48070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99cc00"/>
                  </a:solidFill>
                  <a:latin typeface="Corbel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106"/>
            <p:cNvGrpSpPr/>
            <p:nvPr/>
          </p:nvGrpSpPr>
          <p:grpSpPr>
            <a:xfrm>
              <a:off x="2714400" y="3429000"/>
              <a:ext cx="1441440" cy="1368720"/>
              <a:chOff x="2714400" y="3429000"/>
              <a:chExt cx="1441440" cy="1368720"/>
            </a:xfrm>
          </p:grpSpPr>
          <p:sp>
            <p:nvSpPr>
              <p:cNvPr id="384" name="Freeform 107"/>
              <p:cNvSpPr/>
              <p:nvPr/>
            </p:nvSpPr>
            <p:spPr>
              <a:xfrm>
                <a:off x="2754000" y="3466800"/>
                <a:ext cx="1362240" cy="129312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08"/>
              <p:cNvSpPr/>
              <p:nvPr/>
            </p:nvSpPr>
            <p:spPr>
              <a:xfrm>
                <a:off x="2714400" y="3429000"/>
                <a:ext cx="1441440" cy="136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9"/>
              <p:cNvSpPr/>
              <p:nvPr/>
            </p:nvSpPr>
            <p:spPr>
              <a:xfrm>
                <a:off x="2826720" y="3719160"/>
                <a:ext cx="1136160" cy="9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10"/>
              <p:cNvSpPr/>
              <p:nvPr/>
            </p:nvSpPr>
            <p:spPr>
              <a:xfrm>
                <a:off x="3092760" y="3554640"/>
                <a:ext cx="731160" cy="353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111"/>
            <p:cNvGrpSpPr/>
            <p:nvPr/>
          </p:nvGrpSpPr>
          <p:grpSpPr>
            <a:xfrm>
              <a:off x="6748560" y="3429000"/>
              <a:ext cx="1367640" cy="1368000"/>
              <a:chOff x="6748560" y="3429000"/>
              <a:chExt cx="1367640" cy="1368000"/>
            </a:xfrm>
          </p:grpSpPr>
          <p:sp>
            <p:nvSpPr>
              <p:cNvPr id="389" name="Rectangle 112"/>
              <p:cNvSpPr/>
              <p:nvPr/>
            </p:nvSpPr>
            <p:spPr>
              <a:xfrm>
                <a:off x="6819840" y="3547080"/>
                <a:ext cx="1204200" cy="1152720"/>
              </a:xfrm>
              <a:prstGeom prst="rect">
                <a:avLst/>
              </a:prstGeom>
              <a:solidFill>
                <a:srgbClr val="99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113"/>
              <p:cNvGrpSpPr/>
              <p:nvPr/>
            </p:nvGrpSpPr>
            <p:grpSpPr>
              <a:xfrm>
                <a:off x="6748560" y="3429000"/>
                <a:ext cx="1367640" cy="1368000"/>
                <a:chOff x="6748560" y="3429000"/>
                <a:chExt cx="1367640" cy="1368000"/>
              </a:xfrm>
            </p:grpSpPr>
            <p:sp>
              <p:nvSpPr>
                <p:cNvPr id="391" name="Freeform 114"/>
                <p:cNvSpPr/>
                <p:nvPr/>
              </p:nvSpPr>
              <p:spPr>
                <a:xfrm>
                  <a:off x="6898320" y="3566520"/>
                  <a:ext cx="1067400" cy="1065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115"/>
                <p:cNvSpPr/>
                <p:nvPr/>
              </p:nvSpPr>
              <p:spPr>
                <a:xfrm>
                  <a:off x="6937200" y="3940200"/>
                  <a:ext cx="100800" cy="1566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116"/>
                <p:cNvSpPr/>
                <p:nvPr/>
              </p:nvSpPr>
              <p:spPr>
                <a:xfrm>
                  <a:off x="6937200" y="4109760"/>
                  <a:ext cx="100800" cy="1522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117"/>
                <p:cNvSpPr/>
                <p:nvPr/>
              </p:nvSpPr>
              <p:spPr>
                <a:xfrm>
                  <a:off x="6937200" y="3777120"/>
                  <a:ext cx="156600" cy="1566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118"/>
                <p:cNvSpPr/>
                <p:nvPr/>
              </p:nvSpPr>
              <p:spPr>
                <a:xfrm>
                  <a:off x="6937200" y="3611520"/>
                  <a:ext cx="156600" cy="152280"/>
                </a:xfrm>
                <a:prstGeom prst="rect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119"/>
                <p:cNvSpPr/>
                <p:nvPr/>
              </p:nvSpPr>
              <p:spPr>
                <a:xfrm>
                  <a:off x="6937200" y="4444920"/>
                  <a:ext cx="156600" cy="150480"/>
                </a:xfrm>
                <a:prstGeom prst="rect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120"/>
                <p:cNvSpPr/>
                <p:nvPr/>
              </p:nvSpPr>
              <p:spPr>
                <a:xfrm>
                  <a:off x="6937200" y="4272840"/>
                  <a:ext cx="156600" cy="15912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121"/>
                <p:cNvSpPr/>
                <p:nvPr/>
              </p:nvSpPr>
              <p:spPr>
                <a:xfrm>
                  <a:off x="7100280" y="4361040"/>
                  <a:ext cx="64080" cy="7092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22"/>
                <p:cNvSpPr/>
                <p:nvPr/>
              </p:nvSpPr>
              <p:spPr>
                <a:xfrm>
                  <a:off x="7435440" y="3611520"/>
                  <a:ext cx="158400" cy="10116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123"/>
                <p:cNvSpPr/>
                <p:nvPr/>
              </p:nvSpPr>
              <p:spPr>
                <a:xfrm>
                  <a:off x="7699320" y="3777120"/>
                  <a:ext cx="57600" cy="622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124"/>
                <p:cNvSpPr/>
                <p:nvPr/>
              </p:nvSpPr>
              <p:spPr>
                <a:xfrm>
                  <a:off x="7605000" y="3611520"/>
                  <a:ext cx="152280" cy="1522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125"/>
                <p:cNvSpPr/>
                <p:nvPr/>
              </p:nvSpPr>
              <p:spPr>
                <a:xfrm>
                  <a:off x="7100280" y="3777120"/>
                  <a:ext cx="64080" cy="684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126"/>
                <p:cNvSpPr/>
                <p:nvPr/>
              </p:nvSpPr>
              <p:spPr>
                <a:xfrm>
                  <a:off x="7269840" y="3611520"/>
                  <a:ext cx="152280" cy="10764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127"/>
                <p:cNvSpPr/>
                <p:nvPr/>
              </p:nvSpPr>
              <p:spPr>
                <a:xfrm>
                  <a:off x="7100280" y="3611520"/>
                  <a:ext cx="158400" cy="1522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128"/>
                <p:cNvSpPr/>
                <p:nvPr/>
              </p:nvSpPr>
              <p:spPr>
                <a:xfrm>
                  <a:off x="7770600" y="3611520"/>
                  <a:ext cx="156600" cy="152280"/>
                </a:xfrm>
                <a:prstGeom prst="rect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129"/>
                <p:cNvSpPr/>
                <p:nvPr/>
              </p:nvSpPr>
              <p:spPr>
                <a:xfrm>
                  <a:off x="7770600" y="4444920"/>
                  <a:ext cx="156600" cy="150480"/>
                </a:xfrm>
                <a:prstGeom prst="rect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130"/>
                <p:cNvSpPr/>
                <p:nvPr/>
              </p:nvSpPr>
              <p:spPr>
                <a:xfrm>
                  <a:off x="7826040" y="3940200"/>
                  <a:ext cx="101160" cy="1566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131"/>
                <p:cNvSpPr/>
                <p:nvPr/>
              </p:nvSpPr>
              <p:spPr>
                <a:xfrm>
                  <a:off x="7770600" y="4272840"/>
                  <a:ext cx="156600" cy="15912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132"/>
                <p:cNvSpPr/>
                <p:nvPr/>
              </p:nvSpPr>
              <p:spPr>
                <a:xfrm>
                  <a:off x="7826040" y="4109760"/>
                  <a:ext cx="101160" cy="1522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133"/>
                <p:cNvSpPr/>
                <p:nvPr/>
              </p:nvSpPr>
              <p:spPr>
                <a:xfrm>
                  <a:off x="6786720" y="3467880"/>
                  <a:ext cx="1290240" cy="12906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134"/>
                <p:cNvSpPr/>
                <p:nvPr/>
              </p:nvSpPr>
              <p:spPr>
                <a:xfrm>
                  <a:off x="7770600" y="3777120"/>
                  <a:ext cx="156600" cy="15660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135"/>
                <p:cNvSpPr/>
                <p:nvPr/>
              </p:nvSpPr>
              <p:spPr>
                <a:xfrm>
                  <a:off x="7699320" y="4356720"/>
                  <a:ext cx="57600" cy="7524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36"/>
                <p:cNvSpPr/>
                <p:nvPr/>
              </p:nvSpPr>
              <p:spPr>
                <a:xfrm>
                  <a:off x="7435440" y="4487760"/>
                  <a:ext cx="158400" cy="10764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37"/>
                <p:cNvSpPr/>
                <p:nvPr/>
              </p:nvSpPr>
              <p:spPr>
                <a:xfrm>
                  <a:off x="7605000" y="4444920"/>
                  <a:ext cx="152280" cy="1504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38"/>
                <p:cNvSpPr/>
                <p:nvPr/>
              </p:nvSpPr>
              <p:spPr>
                <a:xfrm>
                  <a:off x="7269840" y="4487760"/>
                  <a:ext cx="152280" cy="10764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39"/>
                <p:cNvSpPr/>
                <p:nvPr/>
              </p:nvSpPr>
              <p:spPr>
                <a:xfrm>
                  <a:off x="7100280" y="4444920"/>
                  <a:ext cx="158400" cy="1504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40"/>
                <p:cNvSpPr/>
                <p:nvPr/>
              </p:nvSpPr>
              <p:spPr>
                <a:xfrm>
                  <a:off x="6748560" y="3429000"/>
                  <a:ext cx="1367640" cy="1368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41"/>
                <p:cNvSpPr/>
                <p:nvPr/>
              </p:nvSpPr>
              <p:spPr>
                <a:xfrm>
                  <a:off x="7214400" y="4135680"/>
                  <a:ext cx="562320" cy="30924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42"/>
                <p:cNvSpPr/>
                <p:nvPr/>
              </p:nvSpPr>
              <p:spPr>
                <a:xfrm>
                  <a:off x="7454880" y="3763800"/>
                  <a:ext cx="321840" cy="31968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43"/>
                <p:cNvSpPr/>
                <p:nvPr/>
              </p:nvSpPr>
              <p:spPr>
                <a:xfrm>
                  <a:off x="7080840" y="3763800"/>
                  <a:ext cx="328680" cy="567360"/>
                </a:xfrm>
                <a:prstGeom prst="pie">
                  <a:avLst/>
                </a:prstGeom>
                <a:solidFill>
                  <a:srgbClr val="99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" name="Group 144"/>
            <p:cNvGrpSpPr/>
            <p:nvPr/>
          </p:nvGrpSpPr>
          <p:grpSpPr>
            <a:xfrm>
              <a:off x="698400" y="3429000"/>
              <a:ext cx="1366920" cy="1368720"/>
              <a:chOff x="698400" y="3429000"/>
              <a:chExt cx="1366920" cy="1368720"/>
            </a:xfrm>
          </p:grpSpPr>
          <p:sp>
            <p:nvSpPr>
              <p:cNvPr id="422" name="Freeform 145"/>
              <p:cNvSpPr/>
              <p:nvPr/>
            </p:nvSpPr>
            <p:spPr>
              <a:xfrm>
                <a:off x="729720" y="3466800"/>
                <a:ext cx="1303920" cy="12931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46"/>
              <p:cNvSpPr/>
              <p:nvPr/>
            </p:nvSpPr>
            <p:spPr>
              <a:xfrm>
                <a:off x="729720" y="3662640"/>
                <a:ext cx="816840" cy="109692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47"/>
              <p:cNvSpPr/>
              <p:nvPr/>
            </p:nvSpPr>
            <p:spPr>
              <a:xfrm>
                <a:off x="729720" y="3895560"/>
                <a:ext cx="595440" cy="864000"/>
              </a:xfrm>
              <a:prstGeom prst="pi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48"/>
              <p:cNvSpPr/>
              <p:nvPr/>
            </p:nvSpPr>
            <p:spPr>
              <a:xfrm>
                <a:off x="698400" y="3429000"/>
                <a:ext cx="1366920" cy="136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49"/>
              <p:cNvSpPr/>
              <p:nvPr/>
            </p:nvSpPr>
            <p:spPr>
              <a:xfrm>
                <a:off x="1235880" y="3573360"/>
                <a:ext cx="405720" cy="48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50"/>
            <p:cNvGrpSpPr/>
            <p:nvPr/>
          </p:nvGrpSpPr>
          <p:grpSpPr>
            <a:xfrm>
              <a:off x="4805280" y="3429000"/>
              <a:ext cx="1366920" cy="1368720"/>
              <a:chOff x="4805280" y="3429000"/>
              <a:chExt cx="1366920" cy="1368720"/>
            </a:xfrm>
          </p:grpSpPr>
          <p:sp>
            <p:nvSpPr>
              <p:cNvPr id="428" name="Freeform 151"/>
              <p:cNvSpPr/>
              <p:nvPr/>
            </p:nvSpPr>
            <p:spPr>
              <a:xfrm>
                <a:off x="4836960" y="3466800"/>
                <a:ext cx="138960" cy="21600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52"/>
              <p:cNvSpPr/>
              <p:nvPr/>
            </p:nvSpPr>
            <p:spPr>
              <a:xfrm>
                <a:off x="5236200" y="3466800"/>
                <a:ext cx="524520" cy="24732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53"/>
              <p:cNvSpPr/>
              <p:nvPr/>
            </p:nvSpPr>
            <p:spPr>
              <a:xfrm>
                <a:off x="4836960" y="3466800"/>
                <a:ext cx="1303200" cy="129924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54"/>
              <p:cNvSpPr/>
              <p:nvPr/>
            </p:nvSpPr>
            <p:spPr>
              <a:xfrm>
                <a:off x="4836960" y="3847320"/>
                <a:ext cx="538200" cy="52560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55"/>
              <p:cNvSpPr/>
              <p:nvPr/>
            </p:nvSpPr>
            <p:spPr>
              <a:xfrm>
                <a:off x="5995080" y="3466800"/>
                <a:ext cx="145080" cy="22212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56"/>
              <p:cNvSpPr/>
              <p:nvPr/>
            </p:nvSpPr>
            <p:spPr>
              <a:xfrm>
                <a:off x="4836960" y="4537440"/>
                <a:ext cx="138960" cy="22860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57"/>
              <p:cNvSpPr/>
              <p:nvPr/>
            </p:nvSpPr>
            <p:spPr>
              <a:xfrm>
                <a:off x="5995080" y="4537440"/>
                <a:ext cx="145080" cy="22860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58"/>
              <p:cNvSpPr/>
              <p:nvPr/>
            </p:nvSpPr>
            <p:spPr>
              <a:xfrm>
                <a:off x="5602680" y="3847320"/>
                <a:ext cx="537480" cy="52560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59"/>
              <p:cNvSpPr/>
              <p:nvPr/>
            </p:nvSpPr>
            <p:spPr>
              <a:xfrm>
                <a:off x="5236200" y="4505760"/>
                <a:ext cx="524520" cy="259920"/>
              </a:xfrm>
              <a:prstGeom prst="pie">
                <a:avLst/>
              </a:prstGeom>
              <a:solidFill>
                <a:srgbClr val="c9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60"/>
              <p:cNvSpPr/>
              <p:nvPr/>
            </p:nvSpPr>
            <p:spPr>
              <a:xfrm>
                <a:off x="4805280" y="3429000"/>
                <a:ext cx="1366920" cy="136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161"/>
            <p:cNvSpPr/>
            <p:nvPr/>
          </p:nvSpPr>
          <p:spPr>
            <a:xfrm>
              <a:off x="2138040" y="3932280"/>
              <a:ext cx="479160" cy="420480"/>
            </a:xfrm>
            <a:prstGeom prst="pie">
              <a:avLst/>
            </a:prstGeom>
            <a:solidFill>
              <a:srgbClr val="80808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62"/>
            <p:cNvSpPr/>
            <p:nvPr/>
          </p:nvSpPr>
          <p:spPr>
            <a:xfrm>
              <a:off x="4156200" y="3932280"/>
              <a:ext cx="479160" cy="420480"/>
            </a:xfrm>
            <a:prstGeom prst="pie">
              <a:avLst/>
            </a:prstGeom>
            <a:solidFill>
              <a:srgbClr val="80808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63"/>
            <p:cNvSpPr/>
            <p:nvPr/>
          </p:nvSpPr>
          <p:spPr>
            <a:xfrm>
              <a:off x="6243840" y="3932280"/>
              <a:ext cx="479160" cy="420480"/>
            </a:xfrm>
            <a:prstGeom prst="pie">
              <a:avLst/>
            </a:prstGeom>
            <a:solidFill>
              <a:srgbClr val="80808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68"/>
          <p:cNvSpPr/>
          <p:nvPr/>
        </p:nvSpPr>
        <p:spPr>
          <a:xfrm>
            <a:off x="3429000" y="5643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WBCSD believes multinational companies can support poverty alleviation and meet profitability goals through inclusive busin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034480" cy="91116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What’s in it for business?</a:t>
            </a:r>
            <a:endParaRPr b="0" lang="en-US" sz="3600" spc="-1" strike="noStrike">
              <a:solidFill>
                <a:srgbClr val="c0c0c0"/>
              </a:solidFill>
              <a:latin typeface="Corbel"/>
            </a:endParaRPr>
          </a:p>
        </p:txBody>
      </p:sp>
      <p:sp>
        <p:nvSpPr>
          <p:cNvPr id="444" name="Rectangle 49"/>
          <p:cNvSpPr/>
          <p:nvPr/>
        </p:nvSpPr>
        <p:spPr>
          <a:xfrm>
            <a:off x="3564000" y="4941720"/>
            <a:ext cx="5281560" cy="170208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234000" tIns="126000" bIns="126000" anchor="ctr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Corbel"/>
              </a:rPr>
              <a:t>As an engine of economic growth and employment and a source of technology and innovation, business has a key role to play in providing system solutions for a more sustainable world.”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3333"/>
                </a:solidFill>
                <a:latin typeface="Corbel"/>
              </a:rPr>
              <a:t>Björn Stigson, </a:t>
            </a:r>
            <a:r>
              <a:rPr b="0" i="1" lang="en-GB" sz="1600" spc="-1" strike="noStrike">
                <a:solidFill>
                  <a:srgbClr val="cc3333"/>
                </a:solidFill>
                <a:latin typeface="Corbel"/>
              </a:rPr>
              <a:t>WBCSD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25"/>
          <p:cNvGrpSpPr/>
          <p:nvPr/>
        </p:nvGrpSpPr>
        <p:grpSpPr>
          <a:xfrm>
            <a:off x="684000" y="1628640"/>
            <a:ext cx="7272720" cy="1079640"/>
            <a:chOff x="684000" y="1628640"/>
            <a:chExt cx="7272720" cy="1079640"/>
          </a:xfrm>
        </p:grpSpPr>
        <p:grpSp>
          <p:nvGrpSpPr>
            <p:cNvPr id="446" name="Group 13"/>
            <p:cNvGrpSpPr/>
            <p:nvPr/>
          </p:nvGrpSpPr>
          <p:grpSpPr>
            <a:xfrm>
              <a:off x="684000" y="1628640"/>
              <a:ext cx="7272720" cy="1079640"/>
              <a:chOff x="684000" y="1628640"/>
              <a:chExt cx="7272720" cy="1079640"/>
            </a:xfrm>
          </p:grpSpPr>
          <p:sp>
            <p:nvSpPr>
              <p:cNvPr id="447" name="AutoShape 10"/>
              <p:cNvSpPr/>
              <p:nvPr/>
            </p:nvSpPr>
            <p:spPr>
              <a:xfrm>
                <a:off x="1836720" y="1628640"/>
                <a:ext cx="6120000" cy="792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6"/>
              <p:cNvSpPr/>
              <p:nvPr/>
            </p:nvSpPr>
            <p:spPr>
              <a:xfrm rot="5400000">
                <a:off x="756000" y="1556640"/>
                <a:ext cx="1079640" cy="1223640"/>
              </a:xfrm>
              <a:custGeom>
                <a:avLst/>
                <a:gdLst>
                  <a:gd name="textAreaLeft" fmla="*/ 0 w 1079640"/>
                  <a:gd name="textAreaRight" fmla="*/ 1080000 w 1079640"/>
                  <a:gd name="textAreaTop" fmla="*/ 0 h 1223640"/>
                  <a:gd name="textAreaBottom" fmla="*/ 1224000 h 12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3333"/>
              </a:solidFill>
              <a:ln w="93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Text Box 16"/>
            <p:cNvSpPr/>
            <p:nvPr/>
          </p:nvSpPr>
          <p:spPr>
            <a:xfrm>
              <a:off x="685800" y="19890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Protec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1781640" y="1628640"/>
              <a:ext cx="418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Reducing risk and stronger supply chai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Strengthening the license to oper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Increasing brand value and repu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26"/>
          <p:cNvGrpSpPr/>
          <p:nvPr/>
        </p:nvGrpSpPr>
        <p:grpSpPr>
          <a:xfrm>
            <a:off x="684000" y="2674800"/>
            <a:ext cx="7270920" cy="1113120"/>
            <a:chOff x="684000" y="2674800"/>
            <a:chExt cx="7270920" cy="1113120"/>
          </a:xfrm>
        </p:grpSpPr>
        <p:grpSp>
          <p:nvGrpSpPr>
            <p:cNvPr id="452" name="Group 14"/>
            <p:cNvGrpSpPr/>
            <p:nvPr/>
          </p:nvGrpSpPr>
          <p:grpSpPr>
            <a:xfrm>
              <a:off x="684000" y="2708280"/>
              <a:ext cx="7270920" cy="1079640"/>
              <a:chOff x="684000" y="2708280"/>
              <a:chExt cx="7270920" cy="1079640"/>
            </a:xfrm>
          </p:grpSpPr>
          <p:sp>
            <p:nvSpPr>
              <p:cNvPr id="453" name="AutoShape 8"/>
              <p:cNvSpPr/>
              <p:nvPr/>
            </p:nvSpPr>
            <p:spPr>
              <a:xfrm rot="5400000">
                <a:off x="756000" y="2636280"/>
                <a:ext cx="1079640" cy="1223640"/>
              </a:xfrm>
              <a:custGeom>
                <a:avLst/>
                <a:gdLst>
                  <a:gd name="textAreaLeft" fmla="*/ 0 w 1079640"/>
                  <a:gd name="textAreaRight" fmla="*/ 1080000 w 1079640"/>
                  <a:gd name="textAreaTop" fmla="*/ 0 h 1223640"/>
                  <a:gd name="textAreaBottom" fmla="*/ 1224000 h 12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3333"/>
              </a:solidFill>
              <a:ln w="93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11"/>
              <p:cNvSpPr/>
              <p:nvPr/>
            </p:nvSpPr>
            <p:spPr>
              <a:xfrm>
                <a:off x="1835280" y="2708280"/>
                <a:ext cx="6119640" cy="7920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17"/>
            <p:cNvSpPr/>
            <p:nvPr/>
          </p:nvSpPr>
          <p:spPr>
            <a:xfrm>
              <a:off x="685080" y="306216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Man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0"/>
            <p:cNvSpPr/>
            <p:nvPr/>
          </p:nvSpPr>
          <p:spPr>
            <a:xfrm>
              <a:off x="1770120" y="2674800"/>
              <a:ext cx="4778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Reducing 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Enhancing produ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Raising the quality of people/new labor 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27"/>
          <p:cNvGrpSpPr/>
          <p:nvPr/>
        </p:nvGrpSpPr>
        <p:grpSpPr>
          <a:xfrm>
            <a:off x="684000" y="3860640"/>
            <a:ext cx="7270920" cy="1081080"/>
            <a:chOff x="684000" y="3860640"/>
            <a:chExt cx="7270920" cy="1081080"/>
          </a:xfrm>
        </p:grpSpPr>
        <p:grpSp>
          <p:nvGrpSpPr>
            <p:cNvPr id="458" name="Group 15"/>
            <p:cNvGrpSpPr/>
            <p:nvPr/>
          </p:nvGrpSpPr>
          <p:grpSpPr>
            <a:xfrm>
              <a:off x="684000" y="3860640"/>
              <a:ext cx="7270920" cy="1081080"/>
              <a:chOff x="684000" y="3860640"/>
              <a:chExt cx="7270920" cy="1081080"/>
            </a:xfrm>
          </p:grpSpPr>
          <p:sp>
            <p:nvSpPr>
              <p:cNvPr id="459" name="AutoShape 9"/>
              <p:cNvSpPr/>
              <p:nvPr/>
            </p:nvSpPr>
            <p:spPr>
              <a:xfrm rot="5400000">
                <a:off x="756000" y="3790080"/>
                <a:ext cx="1079280" cy="1223640"/>
              </a:xfrm>
              <a:custGeom>
                <a:avLst/>
                <a:gdLst>
                  <a:gd name="textAreaLeft" fmla="*/ 0 w 1079280"/>
                  <a:gd name="textAreaRight" fmla="*/ 1079640 w 1079280"/>
                  <a:gd name="textAreaTop" fmla="*/ 0 h 1223640"/>
                  <a:gd name="textAreaBottom" fmla="*/ 1224000 h 12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3333"/>
              </a:solidFill>
              <a:ln w="93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AutoShape 12"/>
              <p:cNvSpPr/>
              <p:nvPr/>
            </p:nvSpPr>
            <p:spPr>
              <a:xfrm>
                <a:off x="1835280" y="3860640"/>
                <a:ext cx="6119640" cy="7923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cc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Text Box 18"/>
            <p:cNvSpPr/>
            <p:nvPr/>
          </p:nvSpPr>
          <p:spPr>
            <a:xfrm>
              <a:off x="724320" y="421488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Gro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22"/>
            <p:cNvSpPr/>
            <p:nvPr/>
          </p:nvSpPr>
          <p:spPr>
            <a:xfrm>
              <a:off x="1911600" y="3927600"/>
              <a:ext cx="262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Improving cost of capi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Accessing new mark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23"/>
            <p:cNvSpPr/>
            <p:nvPr/>
          </p:nvSpPr>
          <p:spPr>
            <a:xfrm>
              <a:off x="4492800" y="3930480"/>
              <a:ext cx="28458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Stimulating inno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rbel"/>
                </a:rPr>
                <a:t>Promoting revenue grow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rbe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val 11"/>
          <p:cNvSpPr/>
          <p:nvPr/>
        </p:nvSpPr>
        <p:spPr>
          <a:xfrm>
            <a:off x="1476360" y="1484280"/>
            <a:ext cx="2881440" cy="2736720"/>
          </a:xfrm>
          <a:prstGeom prst="ellipse">
            <a:avLst/>
          </a:prstGeom>
          <a:solidFill>
            <a:srgbClr val="cc3333">
              <a:alpha val="82000"/>
            </a:srgbClr>
          </a:solidFill>
          <a:ln w="936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4"/>
          <p:cNvSpPr/>
          <p:nvPr/>
        </p:nvSpPr>
        <p:spPr>
          <a:xfrm>
            <a:off x="3781440" y="1484280"/>
            <a:ext cx="2881440" cy="2736720"/>
          </a:xfrm>
          <a:prstGeom prst="ellipse">
            <a:avLst/>
          </a:prstGeom>
          <a:solidFill>
            <a:srgbClr val="cc3333">
              <a:alpha val="82000"/>
            </a:srgbClr>
          </a:solidFill>
          <a:ln w="936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5"/>
          <p:cNvSpPr/>
          <p:nvPr/>
        </p:nvSpPr>
        <p:spPr>
          <a:xfrm>
            <a:off x="2700360" y="3284640"/>
            <a:ext cx="2881440" cy="2736720"/>
          </a:xfrm>
          <a:prstGeom prst="ellipse">
            <a:avLst/>
          </a:prstGeom>
          <a:solidFill>
            <a:srgbClr val="cc3333">
              <a:alpha val="82000"/>
            </a:srgbClr>
          </a:solidFill>
          <a:ln w="936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rbel"/>
              </a:rPr>
              <a:t>It is not just the responsibility of business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Rectangle 49"/>
          <p:cNvSpPr/>
          <p:nvPr/>
        </p:nvSpPr>
        <p:spPr>
          <a:xfrm>
            <a:off x="1116000" y="2060640"/>
            <a:ext cx="5905440" cy="295092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234000" tIns="126000" bIns="126000" anchor="ctr">
            <a:no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ublic governance is a global issue. No longer can businesses, governments, or non-governmental organizations afford to act independently of each other - the stakes are just too high. Only through a combined effort can we achieve economic growth, sustainability, and create an opportunity for a better life for people everywher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rbel"/>
              </a:rPr>
              <a:t>John Connolly, </a:t>
            </a:r>
            <a:r>
              <a:rPr b="1" i="1" lang="en-GB" sz="1800" spc="-1" strike="noStrike">
                <a:solidFill>
                  <a:srgbClr val="cc3333"/>
                </a:solidFill>
                <a:latin typeface="Corbel"/>
              </a:rPr>
              <a:t>Global Chairman, Delo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6840360" y="2133720"/>
            <a:ext cx="270036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0" rIns="234000" tIns="126000" bIns="126000" anchor="ctr">
            <a:no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3962726419_dff294651d_b"/>
          <p:cNvPicPr/>
          <p:nvPr/>
        </p:nvPicPr>
        <p:blipFill>
          <a:blip r:embed="rId1"/>
          <a:srcRect l="554" t="28500" r="5935" b="56016"/>
          <a:stretch/>
        </p:blipFill>
        <p:spPr>
          <a:xfrm>
            <a:off x="0" y="333360"/>
            <a:ext cx="8034480" cy="9349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034480" cy="93492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marL="10778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So what? Business action.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158920" y="1773360"/>
            <a:ext cx="4824360" cy="900000"/>
          </a:xfrm>
          <a:prstGeom prst="roundRect">
            <a:avLst>
              <a:gd name="adj" fmla="val 10662"/>
            </a:avLst>
          </a:prstGeom>
          <a:noFill/>
          <a:ln w="2844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rbel"/>
              </a:rPr>
              <a:t>Scale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2158920" y="3193920"/>
            <a:ext cx="4824360" cy="900360"/>
          </a:xfrm>
          <a:prstGeom prst="roundRect">
            <a:avLst>
              <a:gd name="adj" fmla="val 10662"/>
            </a:avLst>
          </a:prstGeom>
          <a:noFill/>
          <a:ln w="2844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rbel"/>
              </a:rPr>
              <a:t>Speed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2158920" y="4616280"/>
            <a:ext cx="4824360" cy="900360"/>
          </a:xfrm>
          <a:prstGeom prst="roundRect">
            <a:avLst>
              <a:gd name="adj" fmla="val 10662"/>
            </a:avLst>
          </a:prstGeom>
          <a:noFill/>
          <a:ln w="28440">
            <a:solidFill>
              <a:srgbClr val="cc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rbel"/>
              </a:rPr>
              <a:t>Innovate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50:27Z</dcterms:created>
  <dc:creator>davidwillans</dc:creator>
  <dc:description/>
  <dc:language>en-US</dc:language>
  <cp:lastModifiedBy>Anouk Pasquier</cp:lastModifiedBy>
  <dcterms:modified xsi:type="dcterms:W3CDTF">2010-02-12T09:24:16Z</dcterms:modified>
  <cp:revision>656</cp:revision>
  <dc:subject/>
  <dc:title>Slide 1</dc:title>
</cp:coreProperties>
</file>